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CB448-1F75-41BB-86F0-C61B3E2F5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77AAA-DE6B-42E6-B78E-532E85037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AC3F8-09FB-44B1-9424-8967B767C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FB1F2-2933-4420-BC19-89D9C57DA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C1428-4677-49B0-BE34-C265A0CD7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6AA6A-24D4-4D63-87CB-B2C5F2597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D7CBA-5BBA-426C-8D9C-C62123BDD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60112-475B-4891-AC0B-6FAAF88C7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31209-A1E3-4D42-A562-F2B4AD1A6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F9755-0261-4511-AE13-03B402BB0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9E7C-2E44-4DBE-9FF2-0C4557957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2E75F-7C57-4983-9E16-E2DC7AD63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620E-9E35-4D9D-B753-45E3D9047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tività amministrativ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comodità di spiegazione si considera l’amministrazione come uno dei tre poteri dello Stato, per meglio dire la si identifica con il potere esecutivo, ossia un potere che esegue quanto gli altri (Parlamento e Consigli Regionali) hanno voluto in via generale ed astrat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tratta,comunque, di un potere condizionato, in quanto troverebbe nella legge una forma di legittimazione in positivo (a fini di realizzazione dell’interesse pubblico) ed in negativo (non può uscire dai limiti che la legge ha imposto). Ciò differenzia l’agire dei soggetti di p.a. rispetto ai privati, per i quali ultimi vige solo il limite negativo (del rispetto dell’ordine pubblico e del buon costume), ma non un vincolo in positivo.</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57D4ED-EC42-4787-BD67-33DBA42811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procedimento amministrativo</a:t>
            </a:r>
            <a:br>
              <a:rPr sz="4400"/>
            </a:br>
            <a:r>
              <a:rPr b="0" lang="en-US" sz="4400" spc="-1" strike="noStrike">
                <a:solidFill>
                  <a:srgbClr val="000000"/>
                </a:solidFill>
                <a:latin typeface="Times New Roman"/>
              </a:rPr>
              <a:t>(le varie fas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2) </a:t>
            </a:r>
            <a:r>
              <a:rPr b="0" lang="it-IT" sz="1800" spc="-1" strike="noStrike" u="sng">
                <a:solidFill>
                  <a:srgbClr val="000000"/>
                </a:solidFill>
                <a:uFillTx/>
                <a:latin typeface="Times New Roman"/>
              </a:rPr>
              <a:t>Istruttori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questa fase vengono svolti tutti quegli accertamenti di fatto o valutativi che servono alla decisione finale.</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mministrazione acquisisce informazioni, pareri e documenti necessari per decidere. E’ questa la fase nella quale viene ad esplicarsi, nella sua pienezza, il principio del contraddittorio.</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3) </a:t>
            </a:r>
            <a:r>
              <a:rPr b="0" lang="it-IT" sz="1800" spc="-1" strike="noStrike" u="sng">
                <a:solidFill>
                  <a:srgbClr val="000000"/>
                </a:solidFill>
                <a:uFillTx/>
                <a:latin typeface="Times New Roman"/>
              </a:rPr>
              <a:t>Deliberativa o decisoria</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uò trattarsi di una fase semplice, nel caso in cui il soggetto decidente sia singolo (ad es. Ministro, Sindaco) oppure più complessa nell’ipotesi che l’atto venga adottato da un organo collegiale ( ad es. Giunta o Consiglio Comunale).</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4) </a:t>
            </a:r>
            <a:r>
              <a:rPr b="0" lang="it-IT" sz="1800" spc="-1" strike="noStrike" u="sng">
                <a:solidFill>
                  <a:srgbClr val="000000"/>
                </a:solidFill>
                <a:uFillTx/>
                <a:latin typeface="Times New Roman"/>
              </a:rPr>
              <a:t>Integrativa dell’efficaci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volte, ma oramai si tratta di ipotesi non frequenti, si subordina l’efficacia dell’atto al positivo controllo di altro organo.</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5) </a:t>
            </a:r>
            <a:r>
              <a:rPr b="0" lang="it-IT" sz="1800" spc="-1" strike="noStrike" u="sng">
                <a:solidFill>
                  <a:srgbClr val="000000"/>
                </a:solidFill>
                <a:uFillTx/>
                <a:latin typeface="Times New Roman"/>
              </a:rPr>
              <a:t>Pubblicità</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Si realizza attraverso la </a:t>
            </a:r>
            <a:r>
              <a:rPr b="0" i="1" lang="it-IT" sz="1800" spc="-1" strike="noStrike">
                <a:solidFill>
                  <a:srgbClr val="000000"/>
                </a:solidFill>
                <a:latin typeface="Times New Roman"/>
              </a:rPr>
              <a:t>pubblicazione </a:t>
            </a:r>
            <a:r>
              <a:rPr b="0" lang="it-IT" sz="1800" spc="-1" strike="noStrike">
                <a:solidFill>
                  <a:srgbClr val="000000"/>
                </a:solidFill>
                <a:latin typeface="Times New Roman"/>
              </a:rPr>
              <a:t>o </a:t>
            </a:r>
            <a:r>
              <a:rPr b="0" i="1" lang="it-IT" sz="1800" spc="-1" strike="noStrike">
                <a:solidFill>
                  <a:srgbClr val="000000"/>
                </a:solidFill>
                <a:latin typeface="Times New Roman"/>
              </a:rPr>
              <a:t>comunicazione </a:t>
            </a:r>
            <a:r>
              <a:rPr b="0" lang="it-IT" sz="1800" spc="-1" strike="noStrike">
                <a:solidFill>
                  <a:srgbClr val="000000"/>
                </a:solidFill>
                <a:latin typeface="Times New Roman"/>
              </a:rPr>
              <a:t>e/o </a:t>
            </a:r>
            <a:r>
              <a:rPr b="0" i="1" lang="it-IT" sz="1800" spc="-1" strike="noStrike">
                <a:solidFill>
                  <a:srgbClr val="000000"/>
                </a:solidFill>
                <a:latin typeface="Times New Roman"/>
              </a:rPr>
              <a:t>notificazione. </a:t>
            </a:r>
            <a:r>
              <a:rPr b="0" lang="it-IT" sz="1800" spc="-1" strike="noStrike">
                <a:solidFill>
                  <a:srgbClr val="000000"/>
                </a:solidFill>
                <a:latin typeface="Times New Roman"/>
              </a:rPr>
              <a:t>Mancata notificazione e termini per ricorrere</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E02672-FDF0-4B0E-A125-C2E7928D34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i elementi dell’atto amministrativ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ELEMENTI ESSENZIALI</a:t>
            </a:r>
            <a:r>
              <a:rPr b="0" lang="it-IT" sz="1800" spc="-1" strike="noStrike">
                <a:solidFill>
                  <a:srgbClr val="000000"/>
                </a:solidFill>
                <a:latin typeface="Times New Roman"/>
              </a:rPr>
              <a:t>, sono quegli elementi che non possono mancare in un atto amministrativo.</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oggetto</a:t>
            </a:r>
            <a:r>
              <a:rPr b="0" lang="it-IT" sz="1800" spc="-1" strike="noStrike">
                <a:solidFill>
                  <a:srgbClr val="000000"/>
                </a:solidFill>
                <a:latin typeface="Times New Roman"/>
              </a:rPr>
              <a:t>, corrisponde all’organo titolare del potere amministrativo che viene esercitato tramite quel provvedimento. Viene individuato dalla legge che disciplina l’esercizio di quel determinato potere, nonché dalla normativa interna, relativa al riparto di competenze tra i vari organi dell’apparato.</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Oggetto</a:t>
            </a:r>
            <a:r>
              <a:rPr b="0" lang="it-IT" sz="1800" spc="-1" strike="noStrike">
                <a:solidFill>
                  <a:srgbClr val="000000"/>
                </a:solidFill>
                <a:latin typeface="Times New Roman"/>
              </a:rPr>
              <a:t>, è la persona, la cosa o la situazione giuridica su cui si producono gli effetti dell’atto. L’oggetto deve essere determinabile, possibile e lecito.</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Causa</a:t>
            </a:r>
            <a:r>
              <a:rPr b="0" lang="it-IT" sz="1800" spc="-1" strike="noStrike">
                <a:solidFill>
                  <a:srgbClr val="000000"/>
                </a:solidFill>
                <a:latin typeface="Times New Roman"/>
              </a:rPr>
              <a:t>, con essa ci si riferisce all’interesse primario che la legge ha inteso perseguire e che caratterizza l’esercizio della funzione amministrativa per quel determinato atto, pur con tutti i bilanciamenti di interessi necessari alla corretta considerazione dei diversi elementi del contesto reale nel quale esso opera.</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Motivazione,</a:t>
            </a:r>
            <a:r>
              <a:rPr b="0" lang="it-IT" sz="1800" spc="-1" strike="noStrike">
                <a:solidFill>
                  <a:srgbClr val="000000"/>
                </a:solidFill>
                <a:latin typeface="Times New Roman"/>
              </a:rPr>
              <a:t> indica le ragioni che hanno spinto l’amministrazione ad adottare quel provvedimento.</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Forma</a:t>
            </a:r>
            <a:r>
              <a:rPr b="0" lang="it-IT" sz="1800" spc="-1" strike="noStrike">
                <a:solidFill>
                  <a:srgbClr val="000000"/>
                </a:solidFill>
                <a:latin typeface="Times New Roman"/>
              </a:rPr>
              <a:t>, con cui si documenta la conformità dell’atto alle prescrizioni legislative di tipo procedimenta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17B2231-1A43-422A-BE46-F235C76A5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i elementi dell’atto amministrativ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LEMENTI ACCIDENTALI</a:t>
            </a:r>
            <a:r>
              <a:rPr b="0" lang="en-US" sz="2800" spc="-1" strike="noStrike">
                <a:solidFill>
                  <a:srgbClr val="000000"/>
                </a:solidFill>
                <a:latin typeface="Times New Roman"/>
              </a:rPr>
              <a:t>, sono elementi eventualmente present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e ci si riferisce alla condizione, al termine ed al modo, che in alcuni casi possono essere apposti in forza di previsione legislativa esplicita (si pensi alle concessioni di servizi pubblici, in cui il rilascio della concessione è subordinato, per legge, al rispetto di certe condizioni) o implicita (si pensi ai casi in cui, invece, l’amministrazione sia libera di subordinare un’autorizzazione a certe garanzi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B2C66A-AD39-45B4-AA65-29C2E3F7D2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validità dell’atto amministrativ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validità di un atto amministrativo significa contrasto con una norma.</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seconda del tipo di norma si distingue. Se si tratta di una norma </a:t>
            </a:r>
            <a:r>
              <a:rPr b="0" lang="it-IT" sz="1800" spc="-1" strike="noStrike" u="sng">
                <a:solidFill>
                  <a:srgbClr val="000000"/>
                </a:solidFill>
                <a:uFillTx/>
                <a:latin typeface="Times New Roman"/>
              </a:rPr>
              <a:t>giuridica</a:t>
            </a:r>
            <a:r>
              <a:rPr b="0" lang="it-IT" sz="1800" spc="-1" strike="noStrike">
                <a:solidFill>
                  <a:srgbClr val="000000"/>
                </a:solidFill>
                <a:latin typeface="Times New Roman"/>
              </a:rPr>
              <a:t> il vizio si definisce </a:t>
            </a:r>
            <a:r>
              <a:rPr b="0" lang="it-IT" sz="1800" spc="-1" strike="noStrike" u="sng">
                <a:solidFill>
                  <a:srgbClr val="000000"/>
                </a:solidFill>
                <a:uFillTx/>
                <a:latin typeface="Times New Roman"/>
              </a:rPr>
              <a:t>vizio di legittimità</a:t>
            </a:r>
            <a:r>
              <a:rPr b="0" lang="it-IT" sz="1800" spc="-1" strike="noStrike">
                <a:solidFill>
                  <a:srgbClr val="000000"/>
                </a:solidFill>
                <a:latin typeface="Times New Roman"/>
              </a:rPr>
              <a:t>, se si tratta di una norma di </a:t>
            </a:r>
            <a:r>
              <a:rPr b="0" lang="it-IT" sz="1800" spc="-1" strike="noStrike" u="sng">
                <a:solidFill>
                  <a:srgbClr val="000000"/>
                </a:solidFill>
                <a:uFillTx/>
                <a:latin typeface="Times New Roman"/>
              </a:rPr>
              <a:t>buona amministrazione</a:t>
            </a:r>
            <a:r>
              <a:rPr b="0" lang="it-IT" sz="1800" spc="-1" strike="noStrike">
                <a:solidFill>
                  <a:srgbClr val="000000"/>
                </a:solidFill>
                <a:latin typeface="Times New Roman"/>
              </a:rPr>
              <a:t> si parla di </a:t>
            </a:r>
            <a:r>
              <a:rPr b="0" lang="it-IT" sz="1800" spc="-1" strike="noStrike" u="sng">
                <a:solidFill>
                  <a:srgbClr val="000000"/>
                </a:solidFill>
                <a:uFillTx/>
                <a:latin typeface="Times New Roman"/>
              </a:rPr>
              <a:t>vizi di merito</a:t>
            </a:r>
            <a:r>
              <a:rPr b="0" lang="it-IT" sz="1800" spc="-1" strike="noStrike">
                <a:solidFill>
                  <a:srgbClr val="000000"/>
                </a:solidFill>
                <a:latin typeface="Times New Roman"/>
              </a:rPr>
              <a:t>. In quest’ultimo caso l’atto, pur avendo tutti i crismi della legalità, si dimostra inopportuno o non conveniente per la p.a.</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tto viziato, a sua volta, può essere nullo o annullabil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imo tipo di patologia (nullità) si manifesta quando vi è il difetto assoluto di un elemento essenziale dell’atto (quindi, ad es. non identificabilità del soggetto come soggetto di p.a.: atto amministrativo emanato dagli organi del potere legislativo o giudiziario). La nullità opera di diritto, non è soggetta a decadenza e può essere dichiarata mediante una semplice sentenza di accertamento. L’atto nullo non produce effetti e non è sanabil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secondo tipo di patologia (annullabilità) si presenta laddove sono presenti tutti gli elementi essenziali dell’atto, ma uno o più di essi non sono conformi alle norme imperative che disciplinano quel tipo di atto.</a:t>
            </a:r>
            <a:endParaRPr b="0" lang="en-US" sz="1800" spc="-1" strike="noStrike">
              <a:solidFill>
                <a:srgbClr val="000000"/>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B6CD0D8-7CA2-468E-98B7-9EE0A5F8F7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validità dell’atto amministrativo</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to amministrativo può presentare, dunque, dei vizi di legittimità.</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li vizi sono sostanzialmente tre: l’incompetenza, l’eccesso di potere e la violazione di legg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r>
              <a:rPr b="0" lang="en-US" sz="2000" spc="-1" strike="noStrike" u="sng">
                <a:solidFill>
                  <a:srgbClr val="000000"/>
                </a:solidFill>
                <a:uFillTx/>
                <a:latin typeface="Times New Roman"/>
              </a:rPr>
              <a:t>incompetenza</a:t>
            </a:r>
            <a:r>
              <a:rPr b="0" lang="en-US" sz="2000" spc="-1" strike="noStrike">
                <a:solidFill>
                  <a:srgbClr val="000000"/>
                </a:solidFill>
                <a:latin typeface="Times New Roman"/>
              </a:rPr>
              <a:t> è un vizio attinente al soggetto che adotta l’atto e può manifestarsi sotto forma di incompetenza per materia, laddove viene adottato un atto che non rientra tra le materie di competenza di quel determinato organo (ad es.  bilanci ed atti di programmazione adottati dalla G.M. al posto del C.C); di incompetenza per grado, laddove l’atto viene adottato da un’autorità inferiore rispetto a quella effettivamente competente ( ad es. direttore didattico invece del provveditore agli studi); di incompetenza per territorio, laddove l’organo adotta un atto che esula dalla sua sfera di competenza territoriale (ad es. concessione di autolinea in ambito di un determinato Comune, rilasciata da altro Comun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C07B47-A267-41D9-87FB-BA530C6DCD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validità dell’atto amministrativo</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u="sng">
                <a:solidFill>
                  <a:srgbClr val="000000"/>
                </a:solidFill>
                <a:uFillTx/>
                <a:latin typeface="Times New Roman"/>
              </a:rPr>
              <a:t>eccesso di potere</a:t>
            </a:r>
            <a:r>
              <a:rPr b="0" lang="en-US" sz="1800" spc="-1" strike="noStrike">
                <a:solidFill>
                  <a:srgbClr val="000000"/>
                </a:solidFill>
                <a:latin typeface="Times New Roman"/>
              </a:rPr>
              <a:t>, si manifesta quando la volontà espressa nell’atto viene deviata verso un fine, che non è quello previsto dalla legge per quel determinato tipo di atto. L’eccesso di potere presuppone, dunque, in capo al soggetto agente un potere discrezionale, di scelta cioè tra diversi fini e di scelta nel modo di perseguirli.</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ussistenza del vizio si manifesta attraverso svariate fattispecie:</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li</a:t>
            </a:r>
            <a:r>
              <a:rPr b="0" lang="en-US" sz="1800" spc="-1" strike="noStrike">
                <a:solidFill>
                  <a:srgbClr val="000000"/>
                </a:solidFill>
                <a:latin typeface="Times New Roman"/>
              </a:rPr>
              <a:t>, laddove il motivo dell’atto risiede anziché in un interesse pubblico in un interesse privato (ad es. imposizione di un vincolo storico ad un immobile per sottrarlo alla demolizione) oppure in un fine collaterale (trasferimento di un impiegato ad una sede disagiata per punizione).</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intomatiche</a:t>
            </a:r>
            <a:r>
              <a:rPr b="0" lang="en-US" sz="1800" spc="-1" strike="noStrike">
                <a:solidFill>
                  <a:srgbClr val="000000"/>
                </a:solidFill>
                <a:latin typeface="Times New Roman"/>
              </a:rPr>
              <a:t> laddove si evidenzia che il raggiungimento del fine dell’atto è compromesso in ragione di illogicità o irrazionalità evidenti. Si possono ricordare: l’errore o il travisamento dei fatti, l’illogicità manifesta, la contraddittorietà e l’ingiustizia manifesta.</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a:t>
            </a:r>
            <a:r>
              <a:rPr b="0" lang="en-US" sz="1800" spc="-1" strike="noStrike" u="sng">
                <a:solidFill>
                  <a:srgbClr val="000000"/>
                </a:solidFill>
                <a:uFillTx/>
                <a:latin typeface="Times New Roman"/>
              </a:rPr>
              <a:t>violazione di legge</a:t>
            </a:r>
            <a:r>
              <a:rPr b="0" lang="en-US" sz="1800" spc="-1" strike="noStrike">
                <a:solidFill>
                  <a:srgbClr val="000000"/>
                </a:solidFill>
                <a:latin typeface="Times New Roman"/>
              </a:rPr>
              <a:t>, vizio residuale, inteso come violazione di qualsiasi norma giuridica, anche non legislativ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FE914A3-04EB-495E-8311-57B55C55A0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anatoria degli atti amministrativi</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uò accadere che la stessa p.a. si avveda della illegittimità di un proprio provvedimento, che, quindi, sarebbe annullabile.</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alvolta, però, il vizio può essere eliminato senza annullare l’atto. L’atto, dunque, può essere sanat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sì possono esser sanati vizi consistenti nella violazione di regole procedimentali. Facciamo il caso, ad es. che un atto possa essere rilasciato solo sulla base di un accertamento tecnico e questo manchi. Se l’accertamento viene compiuto in seguito con esito favorevole, l’atto viene sanato. Questa forma di sanatoria viene spesso chiamata </a:t>
            </a:r>
            <a:r>
              <a:rPr b="0" i="1" lang="it-IT" sz="2000" spc="-1" strike="noStrike">
                <a:solidFill>
                  <a:srgbClr val="000000"/>
                </a:solidFill>
                <a:latin typeface="Times New Roman"/>
              </a:rPr>
              <a:t>convalida</a:t>
            </a:r>
            <a:r>
              <a:rPr b="0" lang="it-IT" sz="2000" spc="-1" strike="noStrike">
                <a:solidFill>
                  <a:srgbClr val="000000"/>
                </a:solidFill>
                <a:latin typeface="Times New Roman"/>
              </a:rPr>
              <a:t> del provvediment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 poi, l’atto è emanato da un’autorità diversa da quella competente, l’autorità competente può, con un proprio atto, eliminare il vizio facendo salvo il provvedimento. In questo caso si parla di </a:t>
            </a:r>
            <a:r>
              <a:rPr b="0" i="1" lang="it-IT" sz="2000" spc="-1" strike="noStrike">
                <a:solidFill>
                  <a:srgbClr val="000000"/>
                </a:solidFill>
                <a:latin typeface="Times New Roman"/>
              </a:rPr>
              <a:t>ratifica.</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mangono, invece, del tutto insanabili i vizi che consistono in un contrasto del contenuto del provvedimento con le regole legislative o regolamentari o con i principi di imparzialità e di parità di trattament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1B14CF-6617-40A0-B1D2-A6179F46DC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imedi amministrativi contro l’attività antigiuridica della p.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 i ricorsi amministrativi i soggetti che si ritengono danneggiati da una deliberazione amministrativa chiedono che l’amministrazione inizi un apposito procedimento per riesaminare la legittimità o l’opportunità di quella deliberazione.</a:t>
            </a:r>
            <a:endParaRPr b="0" lang="en-US" sz="2000" spc="-1" strike="noStrike">
              <a:solidFill>
                <a:srgbClr val="000000"/>
              </a:solidFill>
              <a:latin typeface="Times New Roman"/>
            </a:endParaRPr>
          </a:p>
          <a:p>
            <a:pPr marL="294840" indent="-294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esige che il soggetto che propone il ricorso abbia ricevuto una lesione personale, diretta ed attuale dei suoi interessi ed abbia interesse all’esito del ricorso.</a:t>
            </a:r>
            <a:endParaRPr b="0" lang="en-US" sz="2000" spc="-1" strike="noStrike">
              <a:solidFill>
                <a:srgbClr val="000000"/>
              </a:solidFill>
              <a:latin typeface="Times New Roman"/>
            </a:endParaRPr>
          </a:p>
          <a:p>
            <a:pPr marL="294840" indent="-294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lla base della disciplina attuale (contenuta nel d.P.R. 1199/1971) è possibile distinguere nettamente i ricorsi ordinari dal ricorso straordinario al Presidente della Repubblica.</a:t>
            </a:r>
            <a:endParaRPr b="0" lang="en-US" sz="2000" spc="-1" strike="noStrike">
              <a:solidFill>
                <a:srgbClr val="000000"/>
              </a:solidFill>
              <a:latin typeface="Times New Roman"/>
            </a:endParaRPr>
          </a:p>
          <a:p>
            <a:pPr marL="294840" indent="-294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a:t>
            </a:r>
            <a:r>
              <a:rPr b="0" lang="en-US" sz="2000" spc="-1" strike="noStrike" u="sng">
                <a:solidFill>
                  <a:srgbClr val="000000"/>
                </a:solidFill>
                <a:uFillTx/>
                <a:latin typeface="Times New Roman"/>
              </a:rPr>
              <a:t>ricorsi ordinari</a:t>
            </a:r>
            <a:r>
              <a:rPr b="0" lang="en-US" sz="2000" spc="-1" strike="noStrike">
                <a:solidFill>
                  <a:srgbClr val="000000"/>
                </a:solidFill>
                <a:latin typeface="Times New Roman"/>
              </a:rPr>
              <a:t> sono:</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il ricorso </a:t>
            </a:r>
            <a:r>
              <a:rPr b="0" lang="en-US" sz="2000" spc="-1" strike="noStrike" u="sng">
                <a:solidFill>
                  <a:srgbClr val="000000"/>
                </a:solidFill>
                <a:uFillTx/>
                <a:latin typeface="Times New Roman"/>
              </a:rPr>
              <a:t>gerarchico</a:t>
            </a:r>
            <a:r>
              <a:rPr b="0" lang="en-US" sz="2000" spc="-1" strike="noStrike">
                <a:solidFill>
                  <a:srgbClr val="000000"/>
                </a:solidFill>
                <a:latin typeface="Times New Roman"/>
              </a:rPr>
              <a:t> che è un rimedio di carattere generale, esperibile o all’autorità gerarchicamente superiore oppure all’organo indicato dalla legge o dalle norme organizzative, nel caso si tratti di delibere emanate da organi di vertice o organi collegiali (in quest’ultimo caso si parla di ric.gerarchico impropri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7A686F-D937-4A0A-B0E2-1D52967E5E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imedi amministrativi contro l’attività antigiuridica della p.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il ricorso in </a:t>
            </a:r>
            <a:r>
              <a:rPr b="0" lang="en-US" sz="2400" spc="-1" strike="noStrike" u="sng">
                <a:solidFill>
                  <a:srgbClr val="000000"/>
                </a:solidFill>
                <a:uFillTx/>
                <a:latin typeface="Times New Roman"/>
              </a:rPr>
              <a:t>opposizione</a:t>
            </a:r>
            <a:r>
              <a:rPr b="0" lang="en-US" sz="2400" spc="-1" strike="noStrike">
                <a:solidFill>
                  <a:srgbClr val="000000"/>
                </a:solidFill>
                <a:latin typeface="Times New Roman"/>
              </a:rPr>
              <a:t>, va presentato allo stesso organo che ha emanato l’atto ed ha carattere speciale perché è ammesso solo nei casi previsti dalla leg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caratteri comuni a questi ricorsi son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e possono riguardare sia profili di legittimità che di merit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sono facoltativi e non preclusivi dei ricorsi giurisdizional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sono esperibili in termini brevi (di solito 30 giorn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si applica il silenzio rigetto se l’Amministrazione non risponde entro 90 giorni.</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28CEED-9689-497E-9B90-463A8FA1C8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imedi amministrativi contro l’attività antigiuridica della p.a</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a:t>
            </a:r>
            <a:r>
              <a:rPr b="0" lang="it-IT" sz="2000" spc="-1" strike="noStrike" u="sng">
                <a:solidFill>
                  <a:srgbClr val="000000"/>
                </a:solidFill>
                <a:uFillTx/>
                <a:latin typeface="Times New Roman"/>
              </a:rPr>
              <a:t>ricorso straordinario al Presidente della Repubbl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 contrario di quello che dice il nome è un rimedio di carattere generale, ma di sola legittimità.</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termine per la sua presentazione è di 120 giorni dall’intervenuta conoscenza del provvedimento lesivo.</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iene definito come un rimedio </a:t>
            </a:r>
            <a:r>
              <a:rPr b="0" i="1" lang="it-IT" sz="2000" spc="-1" strike="noStrike">
                <a:solidFill>
                  <a:srgbClr val="000000"/>
                </a:solidFill>
                <a:latin typeface="Times New Roman"/>
              </a:rPr>
              <a:t>alternativo</a:t>
            </a:r>
            <a:r>
              <a:rPr b="0" lang="it-IT" sz="2000" spc="-1" strike="noStrike">
                <a:solidFill>
                  <a:srgbClr val="000000"/>
                </a:solidFill>
                <a:latin typeface="Times New Roman"/>
              </a:rPr>
              <a:t> al ricorso giurisdizionale, nel senso che può essere convertito in ricorso giurisdizionale se i controinteressati lo richiedono, ma non può essere esperito laddove sia già stato presentato un ricorso giurisdizional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può comprendere il carattere dell’alternatività, considerando che questo procedimento vede coinvolto anche il Consiglio di Stato (sia pure in veste consultiva), che, quindi, potrebbe essere investito della medesima questione nella doppia veste di organo consultivo da una parte e di organo giurisdizionale (d’appello) dall’altra.</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A69A99-71CF-4275-A81F-AA3FF61F6C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tività amministrativ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llo schema appena delineato, la legge impone all’amministrazione di trasformare il comando astratto che ad essa conferisce in un’attività materiale, cioè di trasformare il potere giuridico attribuitole dal legislatore in un atto al fine di creare, modificare o estinguere, in via unilaterale, posizioni giuridiche. Questo esercizio del potere si chiama funzio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1386AF-7215-4BF3-B683-F50600C9BB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riparto di giurisdizione</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ostituzione agli articoli 24.1, 100.1, 103.1, 111.3, 113, 125.2 sembra costituzionalizzare il sistema di tutela giurisdizionale nei confronti degli atti della p.a. come un sistema dualistico, che affida le controversie in cui è parte la p.a. alla magistratura ordinaria, laddove si faccia questione di diritti soggettivi, ed, invece, al giudice amministrativo, laddove si lamenti la lesione di interessi legittimi, ed , in particolari casi indicati dalla legge, anche di diritti soggettiv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seconda del giudice competente, muta sostanzialmente il contenuto della sentenza eventualmente favorevole, perché mentre il giudice amministrativo (d’ora innanzi g.a.) annulla il provvedimento, il giudice ordinario (d’ora innanzi g.o.) può solo disapplicare l’atto amministrativo nel caso concreto sottoposto al suo giudizi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4C46A4-9011-4C37-86BF-24B38E280B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imedi giurisdizionali contro l’attività antigiuridica della p.a</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scrimine fondamentale nel riparto di giurisdizione resta la distinzione tra diritti soggettivi ed interessi legittim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a:t>
            </a:r>
            <a:r>
              <a:rPr b="0" lang="it-IT" sz="2000" spc="-1" strike="noStrike" u="sng">
                <a:solidFill>
                  <a:srgbClr val="000000"/>
                </a:solidFill>
                <a:uFillTx/>
                <a:latin typeface="Times New Roman"/>
              </a:rPr>
              <a:t>diritto soggettivo</a:t>
            </a:r>
            <a:r>
              <a:rPr b="0" lang="it-IT" sz="2000" spc="-1" strike="noStrike">
                <a:solidFill>
                  <a:srgbClr val="000000"/>
                </a:solidFill>
                <a:latin typeface="Times New Roman"/>
              </a:rPr>
              <a:t> si intende comunemente una situazione soggettiva di vantaggio riconosciuta come autonomamente degna di tutela sia nei confronti dei privati che della p.a. (tipicamente i diritti di libertà e quelli scaturenti da un contrat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a:t>
            </a:r>
            <a:r>
              <a:rPr b="0" lang="it-IT" sz="2000" spc="-1" strike="noStrike" u="sng">
                <a:solidFill>
                  <a:srgbClr val="000000"/>
                </a:solidFill>
                <a:uFillTx/>
                <a:latin typeface="Times New Roman"/>
              </a:rPr>
              <a:t>interesse legittimo</a:t>
            </a:r>
            <a:r>
              <a:rPr b="0" lang="it-IT" sz="2000" spc="-1" strike="noStrike">
                <a:solidFill>
                  <a:srgbClr val="000000"/>
                </a:solidFill>
                <a:latin typeface="Times New Roman"/>
              </a:rPr>
              <a:t> si intende comunemente quella situazione di vantaggio riconosciuta dal legislatore come intimamente connessa ad una norma che riconosce in via primaria un interesse generale, di modo che l’interesse legittimo è tutelato ove l’Amministrazione utilizzi correttamente il suo potere ( è la situazione di un partecipante ad una gara pubblica allo svolgimento regolare della procedur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5AC674-8F9A-4F5E-9B68-10743AE5CE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imedi giurisdizionali contro l’attività antigiuridica della p.a</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lazione alla differenza delle situazioni ed al giudice prescelto, muta la tutela che l’ordinamento offre al soggetto leso nella sua sfera giuridica dal provvedimento della p.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l caso si tratti di diritti soggettivi, si può ottenere la reintegrazione della situazione originaria ovvero il risarcimento del dann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l caso di interessi legittimi, l’atto della p.a. che ha operato la lesione viene eliminato (annullato), lasciando salvo un successivo esercizio del potere amministrativo in materi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ED10CB-3893-4C48-BC6C-B118ED82ADC9}"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tività amministrativ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 realtà, ogni esercizio di potere (anche legislativo e giudiziario) dà luogo ad una funzione.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Volendo, quindi, distinguere la funzione amministrativa dalle altre, è possibile ricordare che, a differenza delle altre funzioni, in cui il soggetto agente si presenta in veste obiettiva e </a:t>
            </a:r>
            <a:r>
              <a:rPr b="0" i="1" lang="it-IT" sz="2800" spc="-1" strike="noStrike">
                <a:solidFill>
                  <a:srgbClr val="000000"/>
                </a:solidFill>
                <a:latin typeface="Times New Roman"/>
              </a:rPr>
              <a:t>super partes</a:t>
            </a:r>
            <a:r>
              <a:rPr b="0" lang="it-IT" sz="2800" spc="-1" strike="noStrike">
                <a:solidFill>
                  <a:srgbClr val="000000"/>
                </a:solidFill>
                <a:latin typeface="Times New Roman"/>
              </a:rPr>
              <a:t>, nell’esercizio della funzione amministrativa, l’amministrazione viene a trovarsi come un soggetto dell’ordinamento generale che persegue interessi propri (è parte/imparzia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F0AAE1-AE55-4A5A-B750-88B1F8CFAF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tività amministrativ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attività amministrativa si intende la somma degli atti compiuti da quella determinata amministrazione in quel determinato arco tempora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ben vedere, però, accanto agli atti che costituiscono esercizio di un potere amministrativo volto alla modificazione unilaterale di posizioni giuridiche, tutta l’attività di </a:t>
            </a:r>
            <a:r>
              <a:rPr b="0" i="1" lang="it-IT" sz="2000" spc="-1" strike="noStrike">
                <a:solidFill>
                  <a:srgbClr val="000000"/>
                </a:solidFill>
                <a:latin typeface="Times New Roman"/>
              </a:rPr>
              <a:t>routine </a:t>
            </a:r>
            <a:r>
              <a:rPr b="0" lang="it-IT" sz="2000" spc="-1" strike="noStrike">
                <a:solidFill>
                  <a:srgbClr val="000000"/>
                </a:solidFill>
                <a:latin typeface="Times New Roman"/>
              </a:rPr>
              <a:t>giornaliera concretizza attività presupposte o conseguenti alla determinazione amministrativ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a qui la distinzione tra attività provvedimentale in cui si esercita effettivamente un potere di imperio ed attività di mera amministrazione con la quale si agisce nell’ambito di posizioni giuridiche già definite. C’è, poi, una differenza ulteriore da considerare tra attività di diritto pubblico ed attività di diritto privato della p.a.(quest’ultima non è oggetto del diritto amministrativ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0CCB25-1AAB-4DA4-A9FB-D3CE831997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procedimento amministrativ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via di estrema sintesi, si può dire che il procedimento amministrativo è l’insieme di una pluralità di atti tra loro coordinati e destinati ad un unico fine, anche se aventi varia natura e se posti in essere da diversi soggetti amministrativi.</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può dire che il procedimento amministrativo risponda, generalmente, alle seguenti esigenze:</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ricognizione, valutazione e ponderazione di vari interessi e dati di fatto che l’amministrazione deve tener presenti;</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coordinamento dell’operato dei vari soggetti e organi preposti ai diversi interessi pubblici implicati nel singolo caso;</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 correlazione con l’operato di soggetti ed organi preposti a settori collegati;</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 ammissione degli interessati a far valere le proprie ragioni o, addirittura, a concorrere alla formazione del volut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02B42B-9398-479A-BDCF-9B0F780B59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procedimento amministrativo</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procedimento amministrativo è governato da una serie di principi, alcuni dei quali anteriori alla stessa approvazione della L. 241/1990 (da questa recepiti) ed elaborati dalla giurisprudenza amministrativ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u="sng">
                <a:solidFill>
                  <a:srgbClr val="000000"/>
                </a:solidFill>
                <a:uFillTx/>
                <a:latin typeface="Times New Roman"/>
              </a:rPr>
              <a:t>ragionevolezza</a:t>
            </a:r>
            <a:r>
              <a:rPr b="0" lang="it-IT" sz="2000" spc="-1" strike="noStrike">
                <a:solidFill>
                  <a:srgbClr val="000000"/>
                </a:solidFill>
                <a:latin typeface="Times New Roman"/>
              </a:rPr>
              <a:t>, che implica uguaglianza, logicità e giustizia delle decisioni assun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rPr>
              <a:t>- economicità</a:t>
            </a:r>
            <a:r>
              <a:rPr b="0" lang="it-IT" sz="2000" spc="-1" strike="noStrike">
                <a:solidFill>
                  <a:srgbClr val="000000"/>
                </a:solidFill>
                <a:latin typeface="Times New Roman"/>
              </a:rPr>
              <a:t>, che implica il raggiungimento del fine con il minor sacrificio economic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u="sng">
                <a:solidFill>
                  <a:srgbClr val="000000"/>
                </a:solidFill>
                <a:uFillTx/>
                <a:latin typeface="Times New Roman"/>
              </a:rPr>
              <a:t>celerità</a:t>
            </a:r>
            <a:r>
              <a:rPr b="0" lang="it-IT" sz="2000" spc="-1" strike="noStrike">
                <a:solidFill>
                  <a:srgbClr val="000000"/>
                </a:solidFill>
                <a:latin typeface="Times New Roman"/>
              </a:rPr>
              <a:t>, ossia raggiungimento del fine con i minori appesantimenti procedurali e nel minor tempo possibi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u="sng">
                <a:solidFill>
                  <a:srgbClr val="000000"/>
                </a:solidFill>
                <a:uFillTx/>
                <a:latin typeface="Times New Roman"/>
              </a:rPr>
              <a:t>rispetto del contraddittorio</a:t>
            </a:r>
            <a:r>
              <a:rPr b="0" lang="it-IT" sz="2000" spc="-1" strike="noStrike">
                <a:solidFill>
                  <a:srgbClr val="000000"/>
                </a:solidFill>
                <a:latin typeface="Times New Roman"/>
              </a:rPr>
              <a:t>, onde acquisire le opinioni dei portatori di diversi interess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u="sng">
                <a:solidFill>
                  <a:srgbClr val="000000"/>
                </a:solidFill>
                <a:uFillTx/>
                <a:latin typeface="Times New Roman"/>
              </a:rPr>
              <a:t>affidamento</a:t>
            </a:r>
            <a:r>
              <a:rPr b="0" lang="it-IT" sz="2000" spc="-1" strike="noStrike">
                <a:solidFill>
                  <a:srgbClr val="000000"/>
                </a:solidFill>
                <a:latin typeface="Times New Roman"/>
              </a:rPr>
              <a:t>, in forza del quale la p.a. deve tenere un comportamento di buona fede in tutte le fasi processual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9A5E04-55F9-40EA-9BF7-927929216C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procedimento amministrativ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ccanto a questi la legge 241/1990 (recentemente modificata dalla L. 11 febbraio 2005, n. 15) ha introdotto ulteriori aspetti di grande rilievo.</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zitutto, ha introdotto il principio in forza del quale tutti i procedimenti amministrativi devono concludersi entro un certo termine (art.2)</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a, poi, previsto, con una apposita norma, che gli atti amministrativi debbano essere corredati da una motivazione, che indichi i presupposti di fatto e le ragioni giuridiche che hanno determinato la decisione dell’amministrazione in relazione alle risultanze dell’istruttoria (art.3)</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a introdotto la figura del responsabile del procedimento, ossia di quel funzionario che ha la responsabilità dell’istruttoria ed, eventualmente, dell’adozione dell’atto finale (artt. 4, 5 e 6)</a:t>
            </a: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B6EBD7-A55A-461E-A97E-92478E5737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procedimento amministrativ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Ha canonizzato il concetto di </a:t>
            </a:r>
            <a:r>
              <a:rPr b="0" i="1" lang="it-IT" sz="1800" spc="-1" strike="noStrike">
                <a:solidFill>
                  <a:srgbClr val="000000"/>
                </a:solidFill>
                <a:latin typeface="Times New Roman"/>
              </a:rPr>
              <a:t>partecipazione </a:t>
            </a:r>
            <a:r>
              <a:rPr b="0" lang="it-IT" sz="1800" spc="-1" strike="noStrike">
                <a:solidFill>
                  <a:srgbClr val="000000"/>
                </a:solidFill>
                <a:latin typeface="Times New Roman"/>
              </a:rPr>
              <a:t>al procedimento, prevedendo, a questo fine, l’obbligo di comunicazione personale dell’avvio del procedimento a favore di determinati soggetti nonché la possibilità di intervenire a prò di tutti i soggetti, portatori di interessi pubblici o privati, cui possa derivare un pregiudizio dal provvedimento adottando. In entrambi i casi (comunicazione ed intervento) gli interessati hanno diritto di prendere visione degli atti e presentare memorie scritte e documenti che l’amministrazione ha l’obbligo di valutare se pertinenti (art. 7 e segg.)</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previsto pure che, in accoglimento di osservazioni o proposte  formulate, l’amministrazione possa concludere, nel perseguimento del pubblico interesse, </a:t>
            </a:r>
            <a:r>
              <a:rPr b="0" i="1" lang="it-IT" sz="1800" spc="-1" strike="noStrike">
                <a:solidFill>
                  <a:srgbClr val="000000"/>
                </a:solidFill>
                <a:latin typeface="Times New Roman"/>
              </a:rPr>
              <a:t>accordi</a:t>
            </a:r>
            <a:r>
              <a:rPr b="0" lang="it-IT" sz="1800" spc="-1" strike="noStrike">
                <a:solidFill>
                  <a:srgbClr val="000000"/>
                </a:solidFill>
                <a:latin typeface="Times New Roman"/>
              </a:rPr>
              <a:t> con gli interessati, al fine di determinare il contenuto discrezionale del provvedimento finale, ovvero in sostituzione di questo (art. 11).</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alora sia opportuno effettuare un esame contestuale dei vari interessi pubblici coinvolti, l’amministrazione procedente indice, di regola, una </a:t>
            </a:r>
            <a:r>
              <a:rPr b="0" i="1" lang="it-IT" sz="1800" spc="-1" strike="noStrike">
                <a:solidFill>
                  <a:srgbClr val="000000"/>
                </a:solidFill>
                <a:latin typeface="Times New Roman"/>
              </a:rPr>
              <a:t>conferenza di servizi</a:t>
            </a:r>
            <a:r>
              <a:rPr b="0" lang="it-IT" sz="1800" spc="-1" strike="noStrike">
                <a:solidFill>
                  <a:srgbClr val="000000"/>
                </a:solidFill>
                <a:latin typeface="Times New Roman"/>
              </a:rPr>
              <a:t>. La conferenza può essere convocata anche su richiesta dell’interessato (art. 14 e segg.)</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riconosciuto, infine, a chiunque vi abbia interesse per la tutela di situazioni giuridicamente rilevanti il </a:t>
            </a:r>
            <a:r>
              <a:rPr b="0" i="1" lang="it-IT" sz="1800" spc="-1" strike="noStrike">
                <a:solidFill>
                  <a:srgbClr val="000000"/>
                </a:solidFill>
                <a:latin typeface="Times New Roman"/>
              </a:rPr>
              <a:t>diritto di accesso</a:t>
            </a:r>
            <a:r>
              <a:rPr b="0" lang="it-IT" sz="1800" spc="-1" strike="noStrike">
                <a:solidFill>
                  <a:srgbClr val="000000"/>
                </a:solidFill>
                <a:latin typeface="Times New Roman"/>
              </a:rPr>
              <a:t> ai doc.ti amm.vi (art. 22 e segg.)</a:t>
            </a:r>
            <a:endParaRPr b="0" lang="en-US" sz="1800" spc="-1" strike="noStrike">
              <a:solidFill>
                <a:srgbClr val="000000"/>
              </a:solidFill>
              <a:latin typeface="Times New Roman"/>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91BEEF2-BAA5-4D65-A321-CBE67E452C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procedimento amministrativo</a:t>
            </a:r>
            <a:br>
              <a:rPr sz="4400"/>
            </a:br>
            <a:r>
              <a:rPr b="0" lang="en-US" sz="4400" spc="-1" strike="noStrike">
                <a:solidFill>
                  <a:srgbClr val="000000"/>
                </a:solidFill>
                <a:latin typeface="Times New Roman"/>
              </a:rPr>
              <a:t>(le varie fas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ocedimento amministrativo si compone di varie fasi</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1) </a:t>
            </a:r>
            <a:r>
              <a:rPr b="0" lang="it-IT" sz="1800" spc="-1" strike="noStrike" u="sng">
                <a:solidFill>
                  <a:srgbClr val="000000"/>
                </a:solidFill>
                <a:uFillTx/>
                <a:latin typeface="Times New Roman"/>
              </a:rPr>
              <a:t>Iniziativa</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uò essere della </a:t>
            </a:r>
            <a:r>
              <a:rPr b="0" i="1" lang="it-IT" sz="1800" spc="-1" strike="noStrike">
                <a:solidFill>
                  <a:srgbClr val="000000"/>
                </a:solidFill>
                <a:latin typeface="Times New Roman"/>
              </a:rPr>
              <a:t>stessa</a:t>
            </a:r>
            <a:r>
              <a:rPr b="0" lang="it-IT" sz="1800" spc="-1" strike="noStrike">
                <a:solidFill>
                  <a:srgbClr val="000000"/>
                </a:solidFill>
                <a:latin typeface="Times New Roman"/>
              </a:rPr>
              <a:t> amministrazione procedente ed in tal caso, a) quando la p.a. è obbligata per legge a provvedere si parla di iniziativa </a:t>
            </a:r>
            <a:r>
              <a:rPr b="0" lang="it-IT" sz="1800" spc="-1" strike="noStrike" u="sng">
                <a:solidFill>
                  <a:srgbClr val="000000"/>
                </a:solidFill>
                <a:uFillTx/>
                <a:latin typeface="Times New Roman"/>
              </a:rPr>
              <a:t>obbligatoria o d’ufficio,</a:t>
            </a:r>
            <a:r>
              <a:rPr b="0" lang="it-IT" sz="1800" spc="-1" strike="noStrike">
                <a:solidFill>
                  <a:srgbClr val="000000"/>
                </a:solidFill>
                <a:latin typeface="Times New Roman"/>
              </a:rPr>
              <a:t> ( repressione di un abuso edilizio da parte del Sindaco) b) viceversa la decisione di adottare l’atto può essere spontanea ed allora si allude ad un’iniziativa </a:t>
            </a:r>
            <a:r>
              <a:rPr b="0" lang="it-IT" sz="1800" spc="-1" strike="noStrike" u="sng">
                <a:solidFill>
                  <a:srgbClr val="000000"/>
                </a:solidFill>
                <a:uFillTx/>
                <a:latin typeface="Times New Roman"/>
              </a:rPr>
              <a:t>facoltativa</a:t>
            </a:r>
            <a:r>
              <a:rPr b="0" lang="it-IT" sz="1800" spc="-1" strike="noStrike">
                <a:solidFill>
                  <a:srgbClr val="000000"/>
                </a:solidFill>
                <a:latin typeface="Times New Roman"/>
              </a:rPr>
              <a:t> (P.R.G.)</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uò essere di un’altra amministrazione (A.S.L. che segnala all’autorità competente un fenomeno di inquinament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uò essere del </a:t>
            </a:r>
            <a:r>
              <a:rPr b="0" i="1" lang="it-IT" sz="1800" spc="-1" strike="noStrike">
                <a:solidFill>
                  <a:srgbClr val="000000"/>
                </a:solidFill>
                <a:latin typeface="Times New Roman"/>
              </a:rPr>
              <a:t>privato</a:t>
            </a:r>
            <a:r>
              <a:rPr b="0" lang="it-IT" sz="1800" spc="-1" strike="noStrike">
                <a:solidFill>
                  <a:srgbClr val="000000"/>
                </a:solidFill>
                <a:latin typeface="Times New Roman"/>
              </a:rPr>
              <a:t>, quando ad es. chiede un titolo abilitativo per costruire o per svolgere un’attività commerciale soggetta a vigilanz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ogni caso, una volta iniziato il procedimento, l’amministrazione ha obbligo di pronunciarsi mediante l’adozione di un provvedimento espresso (art. 2 L. 241/1990).</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7863C3F-0E7A-4369-82CE-C4BC7D3A69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9:42:22Z</dcterms:created>
  <dc:creator>Giovanni Cocco</dc:creator>
  <dc:description/>
  <dc:language>en-US</dc:language>
  <cp:lastModifiedBy>asegreteria</cp:lastModifiedBy>
  <dcterms:modified xsi:type="dcterms:W3CDTF">2005-05-30T13:44:23Z</dcterms:modified>
  <cp:revision>3</cp:revision>
  <dc:subject/>
  <dc:title>L’attività amministrativa</dc:title>
</cp:coreProperties>
</file>