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097B7-00B0-4FDD-9CED-95C36CBB0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C8C4-71C0-4020-AC74-94092D3C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00AC-EF3F-480F-98D4-047B490AB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EBA3-AC4F-437D-9188-93040B2E7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2BB5-0483-48C3-BBE3-78CA9C2C8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E980-CCD2-4E9B-9654-4FFA821F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4FDD-BE7B-4EB9-97D5-2EDA5545A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434C-1E6F-4BE1-A255-6AA087219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938C-F377-4FD0-9453-65FDCF3E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D026-4CB1-4ADD-9A57-CAA40FD9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B95A4-C308-4153-B8EC-408F909F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481C-6B1F-4196-88D3-CEE28EBA8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0D37-95C9-4278-BECA-6F9F157DE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ituzioni di diritto Pubblico 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e di Stato, forme di governo ed organizzazione dello Stat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801B84-D8F1-43B0-989A-B23C331CF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caratteristiche fondamentali della Costituzione repubblican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 configura un sistema costituzionale radicalmente difforme da quello che aveva trovato espressione nello Statuto albertino e negli sviluppi successivi .</a:t>
            </a:r>
            <a:endParaRPr b="0"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nzitutto muta radicalmente il fondamento di legittimazione dello Stato (art. 1, c.2 Cost.)     </a:t>
            </a:r>
            <a:r>
              <a:rPr b="0" lang="it-IT" sz="1400" spc="-1" strike="noStrike">
                <a:solidFill>
                  <a:srgbClr val="000000"/>
                </a:solidFill>
                <a:latin typeface="Times New Roman"/>
                <a:ea typeface="Arial Unicode MS"/>
              </a:rPr>
              <a:t> “La sovranità appartiene al popolo”: ciò vuol dire che nessun organo di governo può vantare una legittimazione autonoma all’esercizio delle massime funzioni statuali, ma dovrà poter contare su una legittimazione promanante dall’unico soggetto che, in quanto titolare della sovranità, può attribuirne l’esercizio ad altri soggetti.</a:t>
            </a:r>
            <a:endParaRPr b="0"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canto a questa vi è stata l’altra, importante, scelta di configurare in termini analitici a) tutta una serie di diritti e di doveri individuali e collettivi e b) di regole di funzionamento previste dalla Costituzione. In questo senso anche la scelta di tecnica redazionale è molto diversa da quella liberale, che mirava alla predisposizione di regole costituzionali molto generiche, affidate alla mera reattività del sistema politico. Accanto a ciò figurano in Costituzione tutta una serie di congegni che tendono a far prevalere le regole costituzionali sugli atti e sui comportamenti di contingenti maggioranze politiche (rigidità della Costituzione, controllo della Corte e del Presidente della repubblica).</a:t>
            </a:r>
            <a:endParaRPr b="0" lang="en-US" sz="1400" spc="-1" strike="noStrike">
              <a:solidFill>
                <a:srgbClr val="000000"/>
              </a:solidFill>
              <a:latin typeface="Times New Roman"/>
            </a:endParaRPr>
          </a:p>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el quadro di una Costituzione rigida e fortemente garantista si giustifica, quindi, la previsione di conseguenti ed adeguate tecniche giuridiche a tutela delle situazioni di libertà individuali e collettive (i vari tipi di riserva di legge, le riserve di giurisdizione, il tentativo di identificare in termini precisi e tassativi i limiti all’esercizio dei diritti di libertà).</a:t>
            </a:r>
            <a:endParaRPr b="0" lang="en-US" sz="1400" spc="-1" strike="noStrike">
              <a:solidFill>
                <a:srgbClr val="000000"/>
              </a:solidFill>
              <a:latin typeface="Times New Roman"/>
            </a:endParaRPr>
          </a:p>
        </p:txBody>
      </p:sp>
      <p:sp>
        <p:nvSpPr>
          <p:cNvPr id="84" name=""/>
          <p:cNvSpPr/>
          <p:nvPr/>
        </p:nvSpPr>
        <p:spPr>
          <a:xfrm>
            <a:off x="7467480" y="2590920"/>
            <a:ext cx="152640" cy="75960"/>
          </a:xfrm>
          <a:prstGeom prst="rightArrow">
            <a:avLst>
              <a:gd name="adj1" fmla="val 50000"/>
              <a:gd name="adj2" fmla="val 5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0A0499-7856-4902-9CBC-D1288A2A1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caratteristiche fondamentali della Costituzione repubblicana (segue)</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stituzione vengono anche introdotte forme di tutela del </a:t>
            </a:r>
            <a:r>
              <a:rPr b="1" lang="en-US" sz="1800" spc="-1" strike="noStrike">
                <a:solidFill>
                  <a:srgbClr val="000000"/>
                </a:solidFill>
                <a:latin typeface="Times New Roman"/>
              </a:rPr>
              <a:t>pluralismo sociale. </a:t>
            </a:r>
            <a:r>
              <a:rPr b="0" lang="en-US" sz="1800" spc="-1" strike="noStrike">
                <a:solidFill>
                  <a:srgbClr val="000000"/>
                </a:solidFill>
                <a:latin typeface="Times New Roman"/>
              </a:rPr>
              <a:t>In sostanza tra le libertà vengono ad essere garantite anche quelle libertà collettive che, in passato, erano state ignorate se non osteggiate. La tutela non si ferma al a) riconoscimento delle libertà associative, ma si traduce b) nell’attribuzione di veri e propri poteri ad alcune formazioni sociali (famiglia, comunità locali, comunità linguistich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anto a questo il comma 2 dell’art. 3 esprime con chiarezza il superamento dello Stato liberale a favore dello Stato sociale: emergono, dunque, esigenze di </a:t>
            </a:r>
            <a:r>
              <a:rPr b="1" lang="en-US" sz="1800" spc="-1" strike="noStrike">
                <a:solidFill>
                  <a:srgbClr val="000000"/>
                </a:solidFill>
                <a:latin typeface="Times New Roman"/>
              </a:rPr>
              <a:t>solidarietà</a:t>
            </a:r>
            <a:r>
              <a:rPr b="0" lang="en-US" sz="1800" spc="-1" strike="noStrike">
                <a:solidFill>
                  <a:srgbClr val="000000"/>
                </a:solidFill>
                <a:latin typeface="Times New Roman"/>
              </a:rPr>
              <a:t> che comportano, ovviamente, a) una serie di doveri e di limiti alle situazioni di vantaggio (limiti in materia di attività economiche ed al diritto di proprietà, ad esempio), ma anche numerosi b) diritti sociali concepiti come un </a:t>
            </a:r>
            <a:r>
              <a:rPr b="0" i="1" lang="en-US" sz="1800" spc="-1" strike="noStrike">
                <a:solidFill>
                  <a:srgbClr val="000000"/>
                </a:solidFill>
                <a:latin typeface="Times New Roman"/>
              </a:rPr>
              <a:t>impegno</a:t>
            </a:r>
            <a:r>
              <a:rPr b="0" lang="en-US" sz="1800" spc="-1" strike="noStrike">
                <a:solidFill>
                  <a:srgbClr val="000000"/>
                </a:solidFill>
                <a:latin typeface="Times New Roman"/>
              </a:rPr>
              <a:t> dei pubblici poteri ad operare in positivo per il raggiungimento di condizioni di maggiore giustizia e di più equo sviluppo (le disposizioni che si legano al diritto allo studio, al diritto all’assistenza, alla tutela della salut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037039E-3896-4568-975B-41B23CC04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caratteristiche fondamentali della Costituzione repubblicana (segue)</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quella parte della Costituzione che viene definita la </a:t>
            </a:r>
            <a:r>
              <a:rPr b="1" i="1" lang="it-IT" sz="1600" spc="-1" strike="noStrike">
                <a:solidFill>
                  <a:srgbClr val="000000"/>
                </a:solidFill>
                <a:latin typeface="Times New Roman"/>
              </a:rPr>
              <a:t>costituzione economica</a:t>
            </a:r>
            <a:r>
              <a:rPr b="0" i="1" lang="it-IT" sz="1600" spc="-1" strike="noStrike">
                <a:solidFill>
                  <a:srgbClr val="000000"/>
                </a:solidFill>
                <a:latin typeface="Times New Roman"/>
              </a:rPr>
              <a:t> </a:t>
            </a:r>
            <a:r>
              <a:rPr b="0" lang="it-IT" sz="1600" spc="-1" strike="noStrike">
                <a:solidFill>
                  <a:srgbClr val="000000"/>
                </a:solidFill>
                <a:latin typeface="Times New Roman"/>
              </a:rPr>
              <a:t>e nella linea appena segnalata ritroviamo una serie di principi che riguardano:</a:t>
            </a:r>
            <a:endParaRPr b="0" lang="en-US" sz="16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a) i </a:t>
            </a:r>
            <a:r>
              <a:rPr b="0" i="1" lang="it-IT" sz="1600" spc="-1" strike="noStrike">
                <a:solidFill>
                  <a:srgbClr val="000000"/>
                </a:solidFill>
                <a:latin typeface="Times New Roman"/>
              </a:rPr>
              <a:t>rapporti di lavoro, </a:t>
            </a:r>
            <a:r>
              <a:rPr b="0" lang="it-IT" sz="1600" spc="-1" strike="noStrike">
                <a:solidFill>
                  <a:srgbClr val="000000"/>
                </a:solidFill>
                <a:latin typeface="Times New Roman"/>
              </a:rPr>
              <a:t>con particolare riguardo ai principi che consentono il diritto di sciopero e le libertà sindacali;</a:t>
            </a:r>
            <a:endParaRPr b="0" lang="en-US" sz="16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b) la disciplina dei </a:t>
            </a:r>
            <a:r>
              <a:rPr b="0" i="1" lang="it-IT" sz="1600" spc="-1" strike="noStrike">
                <a:solidFill>
                  <a:srgbClr val="000000"/>
                </a:solidFill>
                <a:latin typeface="Times New Roman"/>
              </a:rPr>
              <a:t>diritti di proprietà </a:t>
            </a:r>
            <a:r>
              <a:rPr b="0" lang="it-IT" sz="1600" spc="-1" strike="noStrike">
                <a:solidFill>
                  <a:srgbClr val="000000"/>
                </a:solidFill>
                <a:latin typeface="Times New Roman"/>
              </a:rPr>
              <a:t>e di </a:t>
            </a:r>
            <a:r>
              <a:rPr b="0" i="1" lang="it-IT" sz="1600" spc="-1" strike="noStrike">
                <a:solidFill>
                  <a:srgbClr val="000000"/>
                </a:solidFill>
                <a:latin typeface="Times New Roman"/>
              </a:rPr>
              <a:t>libera iniziativa economica</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Al riguardo, nel quadro della solidarietà, vanno ricomprese talune limitazioni di tali diritti a fini sociali : art. 42, c. 2, che riconosce la proprietà privata, ma ne consente una disciplina legislativa che ne assicuri la funzione sociale; l’art. 41 che, pur affermando la libertà di iniziativa economica, vieta però che essa possa svolgersi in contrasto con l’utilità sociale, e prevede pure che possa essere indirizzata a fini sociali;</a:t>
            </a:r>
            <a:endParaRPr b="0" lang="en-US" sz="1600" spc="-1" strike="noStrike">
              <a:solidFill>
                <a:srgbClr val="000000"/>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c) i principi che riguardano </a:t>
            </a:r>
            <a:r>
              <a:rPr b="0" i="1" lang="it-IT" sz="1600" spc="-1" strike="noStrike">
                <a:solidFill>
                  <a:srgbClr val="000000"/>
                </a:solidFill>
                <a:latin typeface="Times New Roman"/>
              </a:rPr>
              <a:t>l’intervento dello Stato in economia</a:t>
            </a:r>
            <a:r>
              <a:rPr b="0" lang="it-IT" sz="1600" spc="-1" strike="noStrike">
                <a:solidFill>
                  <a:srgbClr val="000000"/>
                </a:solidFill>
                <a:latin typeface="Times New Roman"/>
              </a:rPr>
              <a:t>, con l’appoggio ad un sistema misto, che prevede l’iniziativa economica pubblica e quella privata. In questo specifico ambito può essere considerata la disposizione dell’art. 43 Cost., che riserva allo Stato o ad altri enti pubblici determinate imprese o categorie di imprese.</a:t>
            </a:r>
            <a:endParaRPr b="0" lang="en-US" sz="1600" spc="-1" strike="noStrike">
              <a:solidFill>
                <a:srgbClr val="000000"/>
              </a:solidFill>
              <a:latin typeface="Times New Roman"/>
            </a:endParaRPr>
          </a:p>
          <a:p>
            <a:pPr marL="312120" indent="-3121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fronte di queste previsioni della Carta, che hanno avuto un certo rilievo, particolarmente negli anni del centro-sinistra ed in quelli del c.d. compromesso storico, vi sono da considerare quelle, di segno nettamente diverso (tese ad una liberalizzazione del mercato e, per ciò stesso, a porre un argine all’invadenza degli interventi pubblici nell’economia) contenute nei Trattati comunitari, che dal ’90 in poi le hanno messe in crisi.</a:t>
            </a:r>
            <a:r>
              <a:rPr b="0"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6BA27A-50D3-4365-878E-B98C57C014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caratteristiche fondamentali della Costituzione repubblicana: l’assetto complessivo dei pubblici poteri</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fronte del complesso dei nuovi principi appena tratteggiati si evidenzia naturalmente la necessità di costruire una </a:t>
            </a:r>
            <a:r>
              <a:rPr b="1" lang="it-IT" sz="1400" spc="-1" strike="noStrike">
                <a:solidFill>
                  <a:srgbClr val="000000"/>
                </a:solidFill>
                <a:latin typeface="Times New Roman"/>
              </a:rPr>
              <a:t>forma di governo</a:t>
            </a:r>
            <a:r>
              <a:rPr b="0" lang="it-IT" sz="1400" spc="-1" strike="noStrike">
                <a:solidFill>
                  <a:srgbClr val="000000"/>
                </a:solidFill>
                <a:latin typeface="Times New Roman"/>
              </a:rPr>
              <a:t> adeguata.</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 evidenzia, così, il tentativo di costruire un sistema capace di superare i limiti di una democrazia fondata solo sulla presenza e sulla centralità di </a:t>
            </a:r>
            <a:r>
              <a:rPr b="0" i="1" lang="it-IT" sz="1400" spc="-1" strike="noStrike">
                <a:solidFill>
                  <a:srgbClr val="000000"/>
                </a:solidFill>
                <a:latin typeface="Times New Roman"/>
              </a:rPr>
              <a:t>alcuni organi rappresentativi </a:t>
            </a:r>
            <a:r>
              <a:rPr b="0" lang="it-IT" sz="1400" spc="-1" strike="noStrike">
                <a:solidFill>
                  <a:srgbClr val="000000"/>
                </a:solidFill>
                <a:latin typeface="Times New Roman"/>
              </a:rPr>
              <a:t>(massime il Parlamento ed il Governo). La forma di governo parlamentare viene corretta attraverso un sistema di pesi e di contrappesi, destinati a mantenere in equilibrio i rapporti tra i massimi organi dello Stato.</a:t>
            </a:r>
            <a:endParaRPr b="0" lang="en-US" sz="1400" spc="-1" strike="noStrike">
              <a:solidFill>
                <a:srgbClr val="000000"/>
              </a:solidFill>
              <a:latin typeface="Times New Roman"/>
            </a:endParaRPr>
          </a:p>
          <a:p>
            <a:pPr marL="318960" indent="-318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 cardini del nuovo sistema sono i seguenti:</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la creazione, accanto agli istituti di democrazia rappresentativa, di istituti di </a:t>
            </a:r>
            <a:r>
              <a:rPr b="1" i="1" lang="it-IT" sz="1400" spc="-1" strike="noStrike">
                <a:solidFill>
                  <a:srgbClr val="000000"/>
                </a:solidFill>
                <a:latin typeface="Times New Roman"/>
              </a:rPr>
              <a:t>democrazia diretta</a:t>
            </a:r>
            <a:r>
              <a:rPr b="0" i="1" lang="it-IT" sz="1400" spc="-1" strike="noStrike">
                <a:solidFill>
                  <a:srgbClr val="000000"/>
                </a:solidFill>
                <a:latin typeface="Times New Roman"/>
              </a:rPr>
              <a:t>.</a:t>
            </a:r>
            <a:r>
              <a:rPr b="0" lang="it-IT" sz="1400" spc="-1" strike="noStrike">
                <a:solidFill>
                  <a:srgbClr val="000000"/>
                </a:solidFill>
                <a:latin typeface="Times New Roman"/>
              </a:rPr>
              <a:t> Il che vuol dire che, accanto a quelle disposizioni che segnano il nostro sistema come rappresentativo (ossia la selezione della classe politica sulla base delle opzioni degli elettori, mediate dal ruolo dei partiti politici </a:t>
            </a:r>
            <a:r>
              <a:rPr b="0" lang="it-IT" sz="1400" spc="-1" strike="noStrike">
                <a:solidFill>
                  <a:srgbClr val="000000"/>
                </a:solidFill>
                <a:latin typeface="Times New Roman"/>
                <a:ea typeface="Arial Unicode MS"/>
              </a:rPr>
              <a:t>     art. 49 Cost.), ne figurano altre che introducono gli istituti di democrazia diretta ( principalmente, il referendum), il tutto nell’ambito di una più ampia deriva partecipativa.</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 il ruolo che viene affidato alle </a:t>
            </a:r>
            <a:r>
              <a:rPr b="1" i="1" lang="it-IT" sz="1400" spc="-1" strike="noStrike">
                <a:solidFill>
                  <a:srgbClr val="000000"/>
                </a:solidFill>
                <a:latin typeface="Times New Roman"/>
                <a:ea typeface="Arial Unicode MS"/>
              </a:rPr>
              <a:t>autonomie regionali e locali</a:t>
            </a:r>
            <a:r>
              <a:rPr b="0" lang="it-IT" sz="1400" spc="-1" strike="noStrike">
                <a:solidFill>
                  <a:srgbClr val="000000"/>
                </a:solidFill>
                <a:latin typeface="Times New Roman"/>
                <a:ea typeface="Arial Unicode MS"/>
              </a:rPr>
              <a:t>, ruolo che dovrebbe valere, per un verso, ad adeguare meglio la p.a. alle tante e diverse esigenze locali, facendo delle autonomie le sedi di mediazione di interessi più vicine ai cittadini.</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       </a:t>
            </a:r>
            <a:r>
              <a:rPr b="0" lang="it-IT" sz="1400" spc="-1" strike="noStrike">
                <a:solidFill>
                  <a:srgbClr val="000000"/>
                </a:solidFill>
                <a:latin typeface="Times New Roman"/>
              </a:rPr>
              <a:t>Nel disegno costituzionale il ruolo attribuito alle Regioni è diverso da quello riconosciuto agli altri Enti locali, non foss’altro in quanto i loro poteri ed i rapporti con lo Stato sono riconosciuti in Costituzione o in leggi costituzionali, onde non vengono a dipendere dalla volontà del Parlamento e del Governo, ma sono tutelati dagli strumenti di garanzia della rigidità costituzionale.</a:t>
            </a:r>
            <a:endParaRPr b="0" lang="en-US" sz="1400" spc="-1" strike="noStrike">
              <a:solidFill>
                <a:srgbClr val="000000"/>
              </a:solidFill>
              <a:latin typeface="Times New Roman"/>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nche in questo caso, c’è da avvertire che lo schema originario è significativamente mutato a seguito dell’approvazione del nuovo titolo V della Costituzione.</a:t>
            </a:r>
            <a:endParaRPr b="0" lang="en-US" sz="1400" spc="-1" strike="noStrike">
              <a:solidFill>
                <a:srgbClr val="000000"/>
              </a:solidFill>
              <a:latin typeface="Times New Roman"/>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2133720" y="411480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067FBA-DFF1-4BF6-BEE4-F570A0762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caratteristiche fondamentali della Costituzione repubblicana: l’assetto complessivo dei pubblici poteri</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Un altro grosso fattore di cambiamento è costituito dal riconoscimento </a:t>
            </a:r>
            <a:r>
              <a:rPr b="1" i="1" lang="it-IT" sz="1400" spc="-1" strike="noStrike">
                <a:solidFill>
                  <a:srgbClr val="000000"/>
                </a:solidFill>
                <a:latin typeface="Times New Roman"/>
              </a:rPr>
              <a:t>dell’autonomia ed indipendenza dei giudici.</a:t>
            </a:r>
            <a:endParaRPr b="0" lang="en-US" sz="14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In questo senso la grande concentrazione di potere, propria dello Stato contemporaneo, trova un bilanciamento, oltre che nella distribuzione del potere tra le forze politiche e sociali, nel ruolo autonomo e nelle funzioni degli organi giudiziari.</a:t>
            </a:r>
            <a:endParaRPr b="0" lang="en-US" sz="14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Così alle speciali garanzie di indipendenza e terzietà della magistratura (vedi art. 101, c. 2; art. 104, c. 1; art. 107, c. 1), si affiancano quelle relative a:</a:t>
            </a:r>
            <a:endParaRPr b="0" lang="en-US" sz="14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1) l’istituzione di un organo di autogoverno della magistratura ( il Consiglio Superiore della Magistratura, art. 104 Cost.);</a:t>
            </a:r>
            <a:endParaRPr b="0" lang="en-US" sz="1400" spc="-1" strike="noStrike">
              <a:solidFill>
                <a:srgbClr val="000000"/>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2) il divieto di istituzione di giudici straordinari o di giudici speciali diversi da quelli previsti esplicitamente in Costituzione.</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saldo coronamento di tutto ciò si pone la creazione di un </a:t>
            </a:r>
            <a:r>
              <a:rPr b="1" i="1" lang="it-IT" sz="1400" spc="-1" strike="noStrike">
                <a:solidFill>
                  <a:srgbClr val="000000"/>
                </a:solidFill>
                <a:latin typeface="Times New Roman"/>
              </a:rPr>
              <a:t>sistema di giustizia costituzionale. </a:t>
            </a:r>
            <a:r>
              <a:rPr b="0" lang="it-IT" sz="1400" spc="-1" strike="noStrike">
                <a:solidFill>
                  <a:srgbClr val="000000"/>
                </a:solidFill>
                <a:latin typeface="Times New Roman"/>
              </a:rPr>
              <a:t>Esso costituisce uno strumento di garanzia fondamentale del rispetto della legalità costituzionale. L’organo che esercita siffatta funzione di garanzia (la Corte Costituzionale) è posto in una posizione di grande indipendenza dagli altri poteri dello Stato. I suoi poteri (vedi art. 134 Cost.) bene evidenziano il livello a cui oramai si spinge il tentativo di imporre il rispetto della legalità.</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nfine, un ruolo di peso è attribuito anche al </a:t>
            </a:r>
            <a:r>
              <a:rPr b="1" i="1" lang="it-IT" sz="1400" spc="-1" strike="noStrike">
                <a:solidFill>
                  <a:srgbClr val="000000"/>
                </a:solidFill>
                <a:latin typeface="Times New Roman"/>
              </a:rPr>
              <a:t>Presidente della Repubblica </a:t>
            </a:r>
            <a:r>
              <a:rPr b="0" lang="it-IT" sz="1400" spc="-1" strike="noStrike">
                <a:solidFill>
                  <a:srgbClr val="000000"/>
                </a:solidFill>
                <a:latin typeface="Times New Roman"/>
              </a:rPr>
              <a:t>cui, tra gli altri poteri, sono affidati anche quello dello scioglimento delle assemblee parlamentari, della nomina del nuovo governo e del potere di messaggio. A lui, insomma, dovrebbe essere attribuito il ruolo di fungere da freno contro le degenerazioni parlamentar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F18A8A-0F5E-4271-A038-E0FF69E2E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Stato italiano e le nuove forme di organizzazione internazionale alla luce del dettato costituzionale</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i sviluppi in questo settore hanno preso le mosse dall’apertura della nostra Costituzione verso il diritto internazionale (v. art. 10), dall’affermato ripudio della guerra come strumento di soluzione dei conflitti internazionali ( v. art. 11), dall’adesione dell’Italia ai valori democratici.</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tti questi elementi legittimavano l’Italia a far parte del consesso internazionale, tant’è che il nostro paese fu ammesso a far parte dell’ONU. La nuova struttura internazionale (che aveva sostituito la Società delle Nazioni dalla quale l’Italia era stata espulsa)  è un’organizzazione che si propone di promuovere la cooperazione tra i popoli, il rispetto dei diritti umani e la composizione pacifica delle controversie internazionali.</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 struttura dell’ONU riflette ancora gli equilibri di forza determinati dalla conclusione del secondo conflitto mondiale, e si articola sulla base dei seguenti organi:</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l’</a:t>
            </a:r>
            <a:r>
              <a:rPr b="0" i="1" lang="en-US" sz="1400" spc="-1" strike="noStrike" u="sng">
                <a:solidFill>
                  <a:srgbClr val="000000"/>
                </a:solidFill>
                <a:uFillTx/>
                <a:latin typeface="Times New Roman"/>
              </a:rPr>
              <a:t>Assemblea Generale</a:t>
            </a:r>
            <a:r>
              <a:rPr b="0" lang="en-US" sz="1400" spc="-1" strike="noStrike">
                <a:solidFill>
                  <a:srgbClr val="000000"/>
                </a:solidFill>
                <a:latin typeface="Times New Roman"/>
              </a:rPr>
              <a:t> nella quale sono rappresentati tutti gli Stati in condizioni di parità;</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il </a:t>
            </a:r>
            <a:r>
              <a:rPr b="0" i="1" lang="en-US" sz="1400" spc="-1" strike="noStrike" u="sng">
                <a:solidFill>
                  <a:srgbClr val="000000"/>
                </a:solidFill>
                <a:uFillTx/>
                <a:latin typeface="Times New Roman"/>
              </a:rPr>
              <a:t>Consiglio di sicurezza</a:t>
            </a:r>
            <a:r>
              <a:rPr b="0" lang="en-US" sz="1400" spc="-1" strike="noStrike">
                <a:solidFill>
                  <a:srgbClr val="000000"/>
                </a:solidFill>
                <a:latin typeface="Times New Roman"/>
              </a:rPr>
              <a:t>, composto da 15 membri, 5 dei quali sono permanenti e rappresentano le 5 potenze uscite vincitrici dal secondo conflitto mondiale (USA, Francia, Gran Bretagna, Russia e Cina) che hanno –oltretutto- il potere di veto su tutte le deliberazioni del Consiglio (gli altri membri sono scelti a rotazione);</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il </a:t>
            </a:r>
            <a:r>
              <a:rPr b="0" i="1" lang="en-US" sz="1400" spc="-1" strike="noStrike" u="sng">
                <a:solidFill>
                  <a:srgbClr val="000000"/>
                </a:solidFill>
                <a:uFillTx/>
                <a:latin typeface="Times New Roman"/>
              </a:rPr>
              <a:t>Segretario Generale</a:t>
            </a:r>
            <a:r>
              <a:rPr b="0" lang="en-US" sz="1400" spc="-1" strike="noStrike">
                <a:solidFill>
                  <a:srgbClr val="000000"/>
                </a:solidFill>
                <a:latin typeface="Times New Roman"/>
              </a:rPr>
              <a:t>, che ha poteri di rappresentanza e di coordinamento dell’attività dell’organizzazione;</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la </a:t>
            </a:r>
            <a:r>
              <a:rPr b="0" i="1" lang="en-US" sz="1400" spc="-1" strike="noStrike" u="sng">
                <a:solidFill>
                  <a:srgbClr val="000000"/>
                </a:solidFill>
                <a:uFillTx/>
                <a:latin typeface="Times New Roman"/>
              </a:rPr>
              <a:t>Corte Internazionale di Giustizia dell’Aia</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6A4479-6E08-47A3-B9CC-4AA73ADA36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Stato italiano e le nuove forme di organizzazione internazionale alla luce del dettato costituzionale</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ltre alle forme di organizzazione del diritto internazionale, un elemento realmente innovativo è rappresentato dalle organizzazioni sovranazionali europee: CECA, CEE ed EURATOM. L’elemento di più rilevante novità in questo caso è rappresentato dal fatto che ad esse, per il perseguimento delle loro finalità di cooperazione economica e sociale, è attribuito dai trattati un potere normativo che si esercita attraverso atti che divengono immediatamente applicabili all’interno degli Stati membri (un qualunque cittadino può servirsene) senza che gli organi statali, cui è conferito per Costituzione il potere legislativo, possano interferir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iene, in questo modo, ad incrinarsi la concezione dello Stato come entità sovrana e detentrice di un monopolio assoluto in ordine all’esercizio del potere normativo. Questo passaggio è stato reso possibile avvalendosi dell’art. 11 Cost., disposizione pensata per l’ONU, ma “aperta” a legittimare le consistenti limitazioni di sovranità che ne sono consegui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versamente per il c.d. diritto internazionale pattizio non solo è possibile, ma è necessario un intervento del Parlamento (legge di esecuzione) affinchè il contenuto del trattato possa produrre effetti giuridici nell’ambito del nostro ordinamento inter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39AFA0C-2E4D-4820-8A8C-36D4D0196B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forma di governo comunitaria (brevi cenni)</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basata su un ruolo assolutamente prevalente della componente intergovernativa, rappresentata dal Consiglio dei Ministri (composto da membri degli esecutivi nazionali) e dalla Commissione delle Comunità, organo anch’esso di derivazione governativa (il suo Presidente ed i suoi membri sono, infatti, nominati ogni quattro anni dai Governi degli Stati membri).</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Il Consiglio è l’organo deliberant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La Commissione, in quanto organo di governo della Comunità, ha il potere di iniziativa e di proposta;</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Il Parlamento ha un ruolo consultivo, fatte salve le procedure di concertazione, di conciliazione ed ora anche di co-decisione, che consentono all’organo parlamentare di incidere maggiormente sul contenuto degli atti normativi (tramite il potere di arresto) e fatto salvo il voto di investitura della Commissione, sempre affidato all’Assemblea parlamentare (voto che non equivale alla fiducia, ma è solo l’espressione di un assenso alle nomine già decise dagli Stati membr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B1265E6-2CE1-47C9-9F4A-E619F2B5D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Stato italiano e le nuove forme di organizzazione internazionale alla luce del dettato costituzionale</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possibilità, per gli organi comunitari di dettare norme immediatamente applicabili negli ordinamenti interni e che valgono a spiegarne la qualifica di sovranazionale, hanno fatto sì che, con il procedere dell’integrazione europea, settori sempre più ampi abbiano finito per essere attratti nell’orbita del potere normativo delle istituzioni comunitari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arie sono state le tappe dell’evoluzione (in verità costantemente espansiva) del diritto comunitario. E’ possibile ricorda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t>
            </a:r>
            <a:r>
              <a:rPr b="0" i="1" lang="it-IT" sz="1600" spc="-1" strike="noStrike">
                <a:solidFill>
                  <a:srgbClr val="000000"/>
                </a:solidFill>
                <a:latin typeface="Times New Roman"/>
              </a:rPr>
              <a:t>Atto Unico Europeo </a:t>
            </a:r>
            <a:r>
              <a:rPr b="0" lang="it-IT" sz="1600" spc="-1" strike="noStrike">
                <a:solidFill>
                  <a:srgbClr val="000000"/>
                </a:solidFill>
                <a:latin typeface="Times New Roman"/>
              </a:rPr>
              <a:t> del 1986, caratterizzato dalla definitiva caduta delle barriere in tema di libertà di circolazione di persone, di merci, di capitali e di serviz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il Trattato di </a:t>
            </a:r>
            <a:r>
              <a:rPr b="0" i="1" lang="it-IT" sz="1600" spc="-1" strike="noStrike">
                <a:solidFill>
                  <a:srgbClr val="000000"/>
                </a:solidFill>
                <a:latin typeface="Times New Roman"/>
              </a:rPr>
              <a:t>Maastricht </a:t>
            </a:r>
            <a:r>
              <a:rPr b="0" lang="it-IT" sz="1600" spc="-1" strike="noStrike">
                <a:solidFill>
                  <a:srgbClr val="000000"/>
                </a:solidFill>
                <a:latin typeface="Times New Roman"/>
              </a:rPr>
              <a:t>del 1992, che ha portato un salto qualitativo in tema di politica monetaria, politica estera e della difesa, ha introdotto la cittadinanza europea, ha trasferito al livello comunitario gran parte delle competenze nel settore bancari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il Trattato di </a:t>
            </a:r>
            <a:r>
              <a:rPr b="0" i="1" lang="it-IT" sz="1600" spc="-1" strike="noStrike">
                <a:solidFill>
                  <a:srgbClr val="000000"/>
                </a:solidFill>
                <a:latin typeface="Times New Roman"/>
              </a:rPr>
              <a:t>Amsterdam, </a:t>
            </a:r>
            <a:r>
              <a:rPr b="0" lang="it-IT" sz="1600" spc="-1" strike="noStrike">
                <a:solidFill>
                  <a:srgbClr val="000000"/>
                </a:solidFill>
                <a:latin typeface="Times New Roman"/>
              </a:rPr>
              <a:t>che ha valorizzato congruamente la cittadinanza europea, ha introdotto modifiche alla forma di governo comunitario, con particolare riguardo alla valorizzazione del ruolo del Parlamento (procedura di co-decisione), ha rafforzato la politica sociale europe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Carta di </a:t>
            </a:r>
            <a:r>
              <a:rPr b="0" i="1" lang="it-IT" sz="1600" spc="-1" strike="noStrike">
                <a:solidFill>
                  <a:srgbClr val="000000"/>
                </a:solidFill>
                <a:latin typeface="Times New Roman"/>
              </a:rPr>
              <a:t>Nizza </a:t>
            </a:r>
            <a:r>
              <a:rPr b="0" lang="it-IT" sz="1600" spc="-1" strike="noStrike">
                <a:solidFill>
                  <a:srgbClr val="000000"/>
                </a:solidFill>
                <a:latin typeface="Times New Roman"/>
              </a:rPr>
              <a:t>che potrebbe rappresentare il</a:t>
            </a:r>
            <a:r>
              <a:rPr b="0" i="1" lang="it-IT" sz="1600" spc="-1" strike="noStrike">
                <a:solidFill>
                  <a:srgbClr val="000000"/>
                </a:solidFill>
                <a:latin typeface="Times New Roman"/>
              </a:rPr>
              <a:t> Bill of rights </a:t>
            </a:r>
            <a:r>
              <a:rPr b="0" lang="it-IT" sz="1600" spc="-1" strike="noStrike">
                <a:solidFill>
                  <a:srgbClr val="000000"/>
                </a:solidFill>
                <a:latin typeface="Times New Roman"/>
              </a:rPr>
              <a:t>dell’ordinamento dell’Union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284BEC5-BFC9-4ACC-96AF-EF6A3FE782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di storia costituzional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rPr>
              <a:t>Il periodo del “congelamento” della Costituzione</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Il carattere profondamente innovativo dei principi costituzionali venne,  però, a scontrarsi con una realtà nella quale la volontà politica di cambiamento risultava molto attenuata. L’intero tessuto normativo attendeva di essere riformato. Organi del tutto nuovi avrebbero dovuto esser creati (Corte Costituzionale, Regioni). Si manifestò, invece, un forte calo della tensione innovatrice in gran parte dovuto al radicalizzarsi del confronto politico e, quindi, all’arroccarsi dei partiti centristi su posizioni di lentissimo gradualismo.</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aticamente fino al 1956, anno di entrata in funzione della Corte Costituzionale, nessun altro adempimento significativo, in attuazione della Costituzione venne prodotto in Parlamento, anche se quest’organo venne a svolgere un’importante funzione quale ammortizzatore dei conflitti sociali e degli accesi contrasti politici.</a:t>
            </a:r>
            <a:endParaRPr b="0" lang="en-US" sz="16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questa sostanziale inattuazione del dettato della Carta fornì copertura teorica l’orientamento manifestato, in quegli anni, dalla Corte di Cassazione, che avallò la distinzione tra: a) norme costituzionali immediatamente precettive e b) norme costituzionali programmatiche (includendo in questa categoria quelle particolarmente innovative).</a:t>
            </a:r>
            <a:endParaRPr b="0" lang="en-US" sz="1600" spc="-1" strike="noStrike">
              <a:solidFill>
                <a:srgbClr val="000000"/>
              </a:solidFill>
              <a:latin typeface="Times New Roman"/>
            </a:endParaRPr>
          </a:p>
          <a:p>
            <a:pPr marL="332640" indent="-3326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Questa situazione venne a mutare con l’avvento del centro sinistra e la ripresa dell’impegno per una piena attuazione della Costituzione.</a:t>
            </a:r>
            <a:r>
              <a:rPr b="0"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28CB65-FE96-4EFC-AFF8-C3BADC408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forme di Stato con riferimento al principio dell’autonomia territoriale</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realtà nell’esaminare questo argomento sarebbe più corretto parlare di variabili che si riscontrano all’interno delle forme di stato esaminate in precedenza</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osì nell’ambito delle esperienze europee attuali di Stato sociale è dato rinvenire Stati unitari (Francia e Olanda), Stati federali (Germania e Austria) e Stati regionali (Italia e Spagna).</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i paesi del vecchio continente, a ben vedere, l’autonomia territoriale rappresenta un’acquisizione abbastanza recente, dal momento che si è risentito a lungo del modello napoleonico (accentrato burocraticamente). In questo quadro, tanto le istituzioni in cui si esprime la dialettica politica quanto le fondamentali strutture amministrative conoscono un unico livello: quello centrale.</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secondo dopoguerra (in particolar modo nel nostro paese) il principio autonomistico realizza un salto di qualità, rappresentato dal riconoscimento di autonomia legislativa agli enti locali, tale da consentire a questi ultimi di presentarsi come soggetti di mediazione politica degli interessi sociali delle collettività local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94A18BB-A82D-4B2D-872D-BBA328F45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di storia costituzional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tappe principali di questo processo si misurano con riferimento 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a:t>
            </a:r>
            <a:r>
              <a:rPr b="0" lang="it-IT" sz="1600" spc="-1" strike="noStrike" u="sng">
                <a:solidFill>
                  <a:srgbClr val="000000"/>
                </a:solidFill>
                <a:uFillTx/>
                <a:latin typeface="Times New Roman"/>
              </a:rPr>
              <a:t>struttura stessa dello Stato</a:t>
            </a:r>
            <a:r>
              <a:rPr b="0" lang="it-IT" sz="1600" spc="-1" strike="noStrike">
                <a:solidFill>
                  <a:srgbClr val="000000"/>
                </a:solidFill>
                <a:latin typeface="Times New Roman"/>
              </a:rPr>
              <a:t>, </a:t>
            </a:r>
            <a:r>
              <a:rPr b="0" lang="it-IT" sz="1600" spc="-1" strike="noStrike">
                <a:solidFill>
                  <a:srgbClr val="000000"/>
                </a:solidFill>
                <a:latin typeface="Times New Roman"/>
              </a:rPr>
              <a:t>con particolare riguardo      all’entrata in funzione della </a:t>
            </a:r>
            <a:r>
              <a:rPr b="0" i="1" lang="it-IT" sz="1600" spc="-1" strike="noStrike">
                <a:solidFill>
                  <a:srgbClr val="000000"/>
                </a:solidFill>
                <a:latin typeface="Times New Roman"/>
              </a:rPr>
              <a:t>Corte Costituzionale</a:t>
            </a:r>
            <a:r>
              <a:rPr b="0" lang="it-IT" sz="1600" spc="-1" strike="noStrike">
                <a:solidFill>
                  <a:srgbClr val="000000"/>
                </a:solidFill>
                <a:latin typeface="Times New Roman"/>
              </a:rPr>
              <a:t> (legge costituzionale n. 1/1948  e poi legge 87/1953) </a:t>
            </a:r>
            <a:r>
              <a:rPr b="0" lang="it-IT" sz="1600" spc="-1" strike="noStrike">
                <a:solidFill>
                  <a:srgbClr val="000000"/>
                </a:solidFill>
                <a:latin typeface="Times New Roman"/>
                <a:ea typeface="Arial Unicode MS"/>
              </a:rPr>
              <a:t> all’istituzione del </a:t>
            </a:r>
            <a:r>
              <a:rPr b="0" i="1" lang="it-IT" sz="1600" spc="-1" strike="noStrike">
                <a:solidFill>
                  <a:srgbClr val="000000"/>
                </a:solidFill>
                <a:latin typeface="Times New Roman"/>
                <a:ea typeface="Arial Unicode MS"/>
              </a:rPr>
              <a:t>Consiglio Superiore della Magistratura</a:t>
            </a:r>
            <a:r>
              <a:rPr b="0" lang="it-IT" sz="1600" spc="-1" strike="noStrike">
                <a:solidFill>
                  <a:srgbClr val="000000"/>
                </a:solidFill>
                <a:latin typeface="Times New Roman"/>
                <a:ea typeface="Arial Unicode MS"/>
              </a:rPr>
              <a:t> (intervenuta con legge 195/1958)     alla riforma dei </a:t>
            </a:r>
            <a:r>
              <a:rPr b="0" i="1" lang="it-IT" sz="1600" spc="-1" strike="noStrike">
                <a:solidFill>
                  <a:srgbClr val="000000"/>
                </a:solidFill>
                <a:latin typeface="Times New Roman"/>
                <a:ea typeface="Arial Unicode MS"/>
              </a:rPr>
              <a:t>regolamenti parlamentari</a:t>
            </a:r>
            <a:r>
              <a:rPr b="0" lang="it-IT" sz="1600" spc="-1" strike="noStrike">
                <a:solidFill>
                  <a:srgbClr val="000000"/>
                </a:solidFill>
                <a:latin typeface="Times New Roman"/>
                <a:ea typeface="Arial Unicode MS"/>
              </a:rPr>
              <a:t> (che è del 1971)      alla legge sulla </a:t>
            </a:r>
            <a:r>
              <a:rPr b="0" i="1" lang="it-IT" sz="1600" spc="-1" strike="noStrike">
                <a:solidFill>
                  <a:srgbClr val="000000"/>
                </a:solidFill>
                <a:latin typeface="Times New Roman"/>
                <a:ea typeface="Arial Unicode MS"/>
              </a:rPr>
              <a:t>Presidenza del Consiglio dei Ministri </a:t>
            </a:r>
            <a:r>
              <a:rPr b="0" lang="it-IT" sz="1600" spc="-1" strike="noStrike">
                <a:solidFill>
                  <a:srgbClr val="000000"/>
                </a:solidFill>
                <a:latin typeface="Times New Roman"/>
                <a:ea typeface="Arial Unicode MS"/>
              </a:rPr>
              <a:t>(L. n. 400/1988)</a:t>
            </a:r>
            <a:r>
              <a:rPr b="0" i="1" lang="it-IT" sz="1600" spc="-1" strike="noStrike">
                <a:solidFill>
                  <a:srgbClr val="000000"/>
                </a:solidFill>
                <a:latin typeface="Times New Roman"/>
                <a:ea typeface="Arial Unicode MS"/>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a:t>
            </a:r>
            <a:r>
              <a:rPr b="0" lang="it-IT" sz="1600" spc="-1" strike="noStrike" u="sng">
                <a:solidFill>
                  <a:srgbClr val="000000"/>
                </a:solidFill>
                <a:uFillTx/>
                <a:latin typeface="Times New Roman"/>
                <a:ea typeface="Arial Unicode MS"/>
              </a:rPr>
              <a:t>l’attuazione delle autonomie regionali</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alle Regioni a statuto speciale fu data attuazione in un primo tempo con le leggi costituzionali nn, 2, 3, 4 e 5 del 1948 e con la legge costituzionale n. 1/1963 per quanto concerne il Friuli – Venezia Giulia, mentre per l’entrata in funzione delle Regioni a statuto ordinario bisogna attendere fino alla legge 281/1970 (legge sulla elezione dei consigli regionali di diritto comun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In questo ambito risultava di particolare difficoltà la definizione del quadro dei poteri legislativi ed amministrativi delle Regioni. Si pensi alla lentezza nella definizione delle leggi cornice ed al travaglio relativo al trasferimento delle funzioni amministrative dallo Stato alle Region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Egualmente laborioso appare il processo di trasferimento delle funzioni amministrative a favore delle c.d. autonomie locali (Province e Comuni), fino alla legge 142/1990.</a:t>
            </a:r>
            <a:endParaRPr b="0" lang="en-US" sz="1600" spc="-1" strike="noStrike">
              <a:solidFill>
                <a:srgbClr val="000000"/>
              </a:solidFill>
              <a:latin typeface="Times New Roman"/>
            </a:endParaRPr>
          </a:p>
        </p:txBody>
      </p:sp>
      <p:sp>
        <p:nvSpPr>
          <p:cNvPr id="106" name=""/>
          <p:cNvSpPr/>
          <p:nvPr/>
        </p:nvSpPr>
        <p:spPr>
          <a:xfrm>
            <a:off x="5638680" y="2362320"/>
            <a:ext cx="152640" cy="75960"/>
          </a:xfrm>
          <a:prstGeom prst="rightArrow">
            <a:avLst>
              <a:gd name="adj1" fmla="val 50000"/>
              <a:gd name="adj2" fmla="val 5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7315200" y="2590920"/>
            <a:ext cx="152280" cy="75960"/>
          </a:xfrm>
          <a:prstGeom prst="right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7086600" y="3048120"/>
            <a:ext cx="152280" cy="75960"/>
          </a:xfrm>
          <a:prstGeom prst="right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981080" y="3048120"/>
            <a:ext cx="152640" cy="75960"/>
          </a:xfrm>
          <a:prstGeom prst="rightArrow">
            <a:avLst>
              <a:gd name="adj1" fmla="val 50000"/>
              <a:gd name="adj2" fmla="val 5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A1849F-B0B4-47A5-998D-76CFB8755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di storia costituzional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realtà nell’intero sistema si registra un spostamento dei momenti reali di decisione politica dalla loro sede naturale, ossia dalle istituzioni rappresentative, agli organi di vertice dei partiti politici. A ciò si aggiunge una assoluta mancanza di ricambio reale almeno fino al 1994 (primo governo Berlusconi) della maggioranza governativ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proposte di riforma elaborate per porre rimedio alla crisi del sistema (a quello che, spesso, si configurava come un sistema a veti incrociati con scarsissima coesione e capacità decisionale) tendevano a: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a) rafforzare i poteri del Presidente del Consiglio nei confronti dei Ministr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b) modificare il sistema elettorale per favorire aggregazioni di partiti e chiamare gli elettori a decidere la coalizione che poi dovrà governa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c) rafforzare il ruolo del Presidente della Repubblic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d) modificare la struttura bicamera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ogni caso le pur sensibili novità registrate sul piano politico-istituzionale (sistema elettorale di tipo maggioritario, forte ricambio dei soggetti politici) non segnano il tramonto del sistema delineato nel 1948 , sì che appare improprio parlare della nascita di una seconda repubblic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06111B3-FF86-4012-9A4F-A3BEA28745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di storia costituzional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realtà se le critiche al sistema politico appaiono in larga misura giustificate, non si può negare però che vi sia stata un’evoluzione continua volta a dare attuazione al disegno costituzionale. In particolar modo fecondo appare il periodo intorno alla prima metà degli anni ’70, che coincide con il venir meno della </a:t>
            </a:r>
            <a:r>
              <a:rPr b="0" i="1" lang="it-IT" sz="1600" spc="-1" strike="noStrike">
                <a:solidFill>
                  <a:srgbClr val="000000"/>
                </a:solidFill>
                <a:latin typeface="Times New Roman"/>
              </a:rPr>
              <a:t>conventio ad excludendum </a:t>
            </a:r>
            <a:r>
              <a:rPr b="0" lang="it-IT" sz="1600" spc="-1" strike="noStrike">
                <a:solidFill>
                  <a:srgbClr val="000000"/>
                </a:solidFill>
                <a:latin typeface="Times New Roman"/>
              </a:rPr>
              <a:t>(che consisteva nel tenere fuori dall’area della maggioranza il PC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rutto di questo periodo furon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L. 300/1970 ( statuto dei lavoratori);</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L. 352/1970 (recante la disciplina del referendum);</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l. 898/1970 (che ha introdotto il divorzi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L. 151/1975 (istitutiva del nuovo diritto di famigli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 la L. 103/1975 (riforma della disciplina del monopolio pubblico dei servizi radiotelevisiv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questo periodo l’intervento del legislatore risulta spesso anticipato e stimolato dall’azione svolta dalla Corte Costituzionale, che compie un’importante opera di depurazione del tessuto normativo, spesso svolgendo opera di supplenza rispetto alle lentezze, se non alle omissioni del legislator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3ECCC06-4643-4691-A9BF-14E427C36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ni di storia costituzional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questo ambito si inquadrano alcuni interventi felici della Corte, quali quello della sentenza n. 33/1960, che fa cadere tutta una serie di divieti di accesso a pubblici uffici, che preesistevano a danno delle donne, oppure quello volto ad estendere il principio di eguaglianza anche agli stranieri o a riequilibrare le posizioni nell’ambito del rapporto tra i coniugi (ad es. superamento della punizione dell’adulterio in maniera differenziata)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engono ad essere eliminati dalla legislazione penalistica tutta una serie di disposizioni contrastanti con i principi in cui si sostanzia la libertà personale dell’imputato (vale a dire: il diritto alla difesa, il divieto di essere sottoposto a misure consistenti in violenze fisiche e morali; la prefissione di termini di durata della carcerazione preventiva; la presunzione di non colpevolezza dell’imputato che dura fino a che una sentenza di condanna divenga definitiv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ncora vengono ad essere disciplinate le misure di prevenzione personale, ossia quelle misure limitative della libertà personale fondate sulla presunzione desunta da certi indizi comportamentali. Misure, quindi, largamente basate sui poteri discrezionali dell’autorità amministrativa e che la Corte ha, invece, riportato nell’alveo dei poteri del giudice nel quadro dell’art. 13, c. 2.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39F9AF8-8CC7-4B41-A56B-B73B9ABF5FF7}"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forme di Stato con riferimento al principio dell’autonomia territoriale</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lendo considerare le caratteristiche che, a tutt’oggi, servono a distinguere la forma di Stato federale da quella regionale, potremmo dire che negli Stati federali:</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gli Stati membri della federazione hanno una </a:t>
            </a:r>
            <a:r>
              <a:rPr b="0" i="1" lang="it-IT" sz="1800" spc="-1" strike="noStrike">
                <a:solidFill>
                  <a:srgbClr val="000000"/>
                </a:solidFill>
                <a:latin typeface="Times New Roman"/>
              </a:rPr>
              <a:t>competenza generale</a:t>
            </a:r>
            <a:r>
              <a:rPr b="0" lang="it-IT" sz="1800" spc="-1" strike="noStrike">
                <a:solidFill>
                  <a:srgbClr val="000000"/>
                </a:solidFill>
                <a:latin typeface="Times New Roman"/>
              </a:rPr>
              <a:t> dalla quale sono escluse tutte le materie che vengono espressamente riservate dalle norme costituzionali agli organi federali;</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nello Stato regionale sono gli organi centrali ad avere una competenza generale, fatta salva la competenza affidata alle regioni.</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ciò vi è da aggiungere che negli Stati federali gli Stati membri conservano alcune prerogative degli Stati sovrani: in alcuni casi hanno una, limitata, capacità di agire sul piano internazionale, dispongono degli apparati giudiziari e di propri apparati armati (la “seconda guerra civile americana”).</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a è anche sulla forma di governo che il principio autonomistico gioca il suo ruolo principale, attraverso la previsione di una Camera delle autonomie e la previsione di appositi organi di giustizia costituzionale chiamati ad assicurare il rispetto dei limiti di competenza fissati dalla Costituzione per lo stato centrale ed i governi locali.</a:t>
            </a: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CB3B08D-BDC7-4261-9C8F-F09E313E9A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rme di governo</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forma di governo nello </a:t>
            </a:r>
            <a:r>
              <a:rPr b="1" lang="it-IT" sz="1400" spc="-1" strike="noStrike">
                <a:solidFill>
                  <a:srgbClr val="000000"/>
                </a:solidFill>
                <a:latin typeface="Times New Roman"/>
              </a:rPr>
              <a:t>Stato assoluto</a:t>
            </a:r>
            <a:r>
              <a:rPr b="0" lang="it-IT" sz="1400" spc="-1" strike="noStrike">
                <a:solidFill>
                  <a:srgbClr val="000000"/>
                </a:solidFill>
                <a:latin typeface="Times New Roman"/>
              </a:rPr>
              <a:t>. La prima forma di governo in senso proprio nasce con lo Stato assoluto, il cui intervento in svariati settori crea le premesse per la formazione dei primi nuclei di una struttura amministrativa statale unitaria e stabile.</a:t>
            </a:r>
            <a:endParaRPr b="0" lang="en-US" sz="1400" spc="-1" strike="noStrike">
              <a:solidFill>
                <a:srgbClr val="000000"/>
              </a:solidFill>
              <a:latin typeface="Times New Roman"/>
            </a:endParaRPr>
          </a:p>
          <a:p>
            <a:pPr marL="339480" indent="-33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l vertice di questa struttura si situa il sovrano cui fanno capo tutte le funzioni statali in quanto è il sovrano che cura direttamente gli interessi generali della collettività.</a:t>
            </a:r>
            <a:endParaRPr b="0" lang="en-US" sz="1400" spc="-1" strike="noStrike">
              <a:solidFill>
                <a:srgbClr val="000000"/>
              </a:solidFill>
              <a:latin typeface="Times New Roman"/>
            </a:endParaRPr>
          </a:p>
          <a:p>
            <a:pPr marL="339480" indent="-33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Il re fa le leggi b) il re nomina i funzionari c) il re nomina i giudici che, in suo nome, amministrano la giustizia.</a:t>
            </a:r>
            <a:endParaRPr b="0" lang="en-US" sz="1400" spc="-1" strike="noStrike">
              <a:solidFill>
                <a:srgbClr val="000000"/>
              </a:solidFill>
              <a:latin typeface="Times New Roman"/>
            </a:endParaRPr>
          </a:p>
          <a:p>
            <a:pPr marL="339480" indent="-33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all’accrescimento degli apparati amministrativi si determina, ad un certo punto, l’esigenza che il sovrano si doti di un organo ausiliario, il governo.</a:t>
            </a:r>
            <a:endParaRPr b="0" lang="en-US" sz="1400" spc="-1" strike="noStrike">
              <a:solidFill>
                <a:srgbClr val="000000"/>
              </a:solidFill>
              <a:latin typeface="Times New Roman"/>
            </a:endParaRPr>
          </a:p>
          <a:p>
            <a:pPr marL="339480" indent="-33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forma di governo che si accompagna alla </a:t>
            </a:r>
            <a:r>
              <a:rPr b="1" lang="it-IT" sz="1400" spc="-1" strike="noStrike">
                <a:solidFill>
                  <a:srgbClr val="000000"/>
                </a:solidFill>
                <a:latin typeface="Times New Roman"/>
              </a:rPr>
              <a:t>monarchia costituzionale. </a:t>
            </a:r>
            <a:r>
              <a:rPr b="0" lang="it-IT" sz="1400" spc="-1" strike="noStrike">
                <a:solidFill>
                  <a:srgbClr val="000000"/>
                </a:solidFill>
                <a:latin typeface="Times New Roman"/>
              </a:rPr>
              <a:t>La rivoluzione francese segna la fine della monarchia assoluta, almeno negli stati dell’Europa continentale. In Inghilterra questo passaggio era avvenuto circa un secolo prima con la teorizzazione da parte di Locke del principio della divisione dei poteri, che ha comportato la frantumazione dell’unicità del potere e la sua ripartizione su due organi distinti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                                                        </a:t>
            </a:r>
            <a:r>
              <a:rPr b="0" lang="it-IT" sz="1400" spc="-1" strike="noStrike">
                <a:solidFill>
                  <a:srgbClr val="000000"/>
                </a:solidFill>
                <a:latin typeface="Times New Roman"/>
                <a:ea typeface="Arial Unicode MS"/>
              </a:rPr>
              <a:t>il Sovrano          il Parlamento</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Arial Unicode MS"/>
              </a:rPr>
              <a:t>In una situazione di sostanziale equilibrio tale da dar vita ad un sistema dualista.</a:t>
            </a:r>
            <a:endParaRPr b="0" lang="en-US" sz="1400" spc="-1" strike="noStrike">
              <a:solidFill>
                <a:srgbClr val="000000"/>
              </a:solidFill>
              <a:latin typeface="Times New Roman"/>
            </a:endParaRPr>
          </a:p>
        </p:txBody>
      </p:sp>
      <p:sp>
        <p:nvSpPr>
          <p:cNvPr id="49" name=""/>
          <p:cNvSpPr/>
          <p:nvPr/>
        </p:nvSpPr>
        <p:spPr>
          <a:xfrm>
            <a:off x="4038480" y="4876920"/>
            <a:ext cx="152640" cy="75960"/>
          </a:xfrm>
          <a:prstGeom prst="rightArrow">
            <a:avLst>
              <a:gd name="adj1" fmla="val 50000"/>
              <a:gd name="adj2" fmla="val 5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0" name=""/>
          <p:cNvSpPr/>
          <p:nvPr/>
        </p:nvSpPr>
        <p:spPr>
          <a:xfrm>
            <a:off x="4267080" y="4876920"/>
            <a:ext cx="152640" cy="75960"/>
          </a:xfrm>
          <a:prstGeom prst="rightArrow">
            <a:avLst>
              <a:gd name="adj1" fmla="val 50000"/>
              <a:gd name="adj2" fmla="val 50237"/>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 name=""/>
          <p:cNvSpPr/>
          <p:nvPr/>
        </p:nvSpPr>
        <p:spPr>
          <a:xfrm>
            <a:off x="4267080" y="5105520"/>
            <a:ext cx="76320" cy="152280"/>
          </a:xfrm>
          <a:prstGeom prst="down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91120" y="5334120"/>
            <a:ext cx="7596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 name=""/>
          <p:cNvSpPr/>
          <p:nvPr/>
        </p:nvSpPr>
        <p:spPr>
          <a:xfrm>
            <a:off x="4343400" y="5334120"/>
            <a:ext cx="7632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 name=""/>
          <p:cNvSpPr/>
          <p:nvPr/>
        </p:nvSpPr>
        <p:spPr>
          <a:xfrm>
            <a:off x="3886200" y="5638680"/>
            <a:ext cx="7632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 name=""/>
          <p:cNvSpPr/>
          <p:nvPr/>
        </p:nvSpPr>
        <p:spPr>
          <a:xfrm>
            <a:off x="4724280" y="5638680"/>
            <a:ext cx="7632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418315-671D-4D6D-A234-00E2B62E5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 di governo (segu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forma di governo costituzionale assume una diversa connotazione in Francia dove viene teorizzata sopra tutto ad opera di Montesqieu e Rosseau.</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nche in questo caso si afferma che non dovrà esserci più alcun potere esercitato in condizioni di monopolio, ma –si aggiunge- che non dovrà esserci nemmeno alcun potere esercitato al di fuori di uno stretto collegamento con la volontà popolare.</a:t>
            </a:r>
            <a:endParaRPr b="0" lang="en-US" sz="1600" spc="-1" strike="noStrike">
              <a:solidFill>
                <a:srgbClr val="000000"/>
              </a:solidFill>
              <a:latin typeface="Times New Roman"/>
            </a:endParaRPr>
          </a:p>
          <a:p>
            <a:pPr marL="305280" indent="-305280" algn="ct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 caratteri istituzionali della monarchia costituzionale</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il Sovrano                                  il Parlamento</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È titolare a) del </a:t>
            </a:r>
            <a:r>
              <a:rPr b="0" i="1" lang="it-IT" sz="1600" spc="-1" strike="noStrike">
                <a:solidFill>
                  <a:srgbClr val="000000"/>
                </a:solidFill>
                <a:latin typeface="Times New Roman"/>
              </a:rPr>
              <a:t>potere esecutivo</a:t>
            </a:r>
            <a:r>
              <a:rPr b="0" lang="it-IT" sz="1600" spc="-1" strike="noStrike">
                <a:solidFill>
                  <a:srgbClr val="000000"/>
                </a:solidFill>
                <a:latin typeface="Times New Roman"/>
              </a:rPr>
              <a:t>                                  è titolare del </a:t>
            </a:r>
            <a:r>
              <a:rPr b="0" i="1" lang="it-IT" sz="1600" spc="-1" strike="noStrike">
                <a:solidFill>
                  <a:srgbClr val="000000"/>
                </a:solidFill>
                <a:latin typeface="Times New Roman"/>
              </a:rPr>
              <a:t>potere legislativo</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b) </a:t>
            </a:r>
            <a:r>
              <a:rPr b="0" i="1" lang="it-IT" sz="1600" spc="-1" strike="noStrike">
                <a:solidFill>
                  <a:srgbClr val="000000"/>
                </a:solidFill>
                <a:latin typeface="Times New Roman"/>
              </a:rPr>
              <a:t>nomina e revoca</a:t>
            </a:r>
            <a:r>
              <a:rPr b="0" lang="it-IT" sz="1600" spc="-1" strike="noStrike">
                <a:solidFill>
                  <a:srgbClr val="000000"/>
                </a:solidFill>
                <a:latin typeface="Times New Roman"/>
              </a:rPr>
              <a:t> i membri del                  che divide, in parte, con il Sovrano</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Governo</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c) è formalmente titolare anche     </a:t>
            </a:r>
            <a:r>
              <a:rPr b="0" lang="it-IT" sz="1600" spc="-1" strike="noStrike">
                <a:solidFill>
                  <a:srgbClr val="000000"/>
                </a:solidFill>
                <a:latin typeface="Times New Roman"/>
                <a:ea typeface="Arial Unicode MS"/>
              </a:rPr>
              <a:t>                deve sottoporre al Parlamento le</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r>
              <a:rPr b="0" lang="it-IT" sz="1600" spc="-1" strike="noStrike">
                <a:solidFill>
                  <a:srgbClr val="000000"/>
                </a:solidFill>
                <a:latin typeface="Times New Roman"/>
                <a:ea typeface="Arial Unicode MS"/>
              </a:rPr>
              <a:t>della </a:t>
            </a:r>
            <a:r>
              <a:rPr b="0" i="1" lang="it-IT" sz="1600" spc="-1" strike="noStrike">
                <a:solidFill>
                  <a:srgbClr val="000000"/>
                </a:solidFill>
                <a:latin typeface="Times New Roman"/>
                <a:ea typeface="Arial Unicode MS"/>
              </a:rPr>
              <a:t>funzione giurisdizionale</a:t>
            </a:r>
            <a:r>
              <a:rPr b="0" lang="it-IT" sz="1600" spc="-1" strike="noStrike">
                <a:solidFill>
                  <a:srgbClr val="000000"/>
                </a:solidFill>
                <a:latin typeface="Times New Roman"/>
                <a:ea typeface="Arial Unicode MS"/>
              </a:rPr>
              <a:t>                    leggi di spesa</a:t>
            </a:r>
            <a:endParaRPr b="0" lang="en-US" sz="1600" spc="-1" strike="noStrike">
              <a:solidFill>
                <a:srgbClr val="000000"/>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realtà gli assetti istituzionali riflettono i nuovi rapporti sociali nel frattempo instauratisi e che vedono il Parlamento come sede di rappresentanza politica della classe borghese (affermatasi vincente).</a:t>
            </a:r>
            <a:endParaRPr b="0" lang="en-US" sz="1600" spc="-1" strike="noStrike">
              <a:solidFill>
                <a:srgbClr val="000000"/>
              </a:solidFill>
              <a:latin typeface="Times New Roman"/>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4495680" y="3809880"/>
            <a:ext cx="7632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 name=""/>
          <p:cNvSpPr/>
          <p:nvPr/>
        </p:nvSpPr>
        <p:spPr>
          <a:xfrm>
            <a:off x="4724280" y="3809880"/>
            <a:ext cx="7632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3429000" y="4191120"/>
            <a:ext cx="7632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a:off x="5105520" y="4191120"/>
            <a:ext cx="7596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 name=""/>
          <p:cNvSpPr/>
          <p:nvPr/>
        </p:nvSpPr>
        <p:spPr>
          <a:xfrm>
            <a:off x="4648320" y="3505320"/>
            <a:ext cx="75960" cy="152280"/>
          </a:xfrm>
          <a:prstGeom prst="down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91120" y="548640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4419720" y="548640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 name=""/>
          <p:cNvSpPr/>
          <p:nvPr/>
        </p:nvSpPr>
        <p:spPr>
          <a:xfrm>
            <a:off x="4648320" y="548640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4876920" y="5486400"/>
            <a:ext cx="152280" cy="76320"/>
          </a:xfrm>
          <a:prstGeom prst="rightArrow">
            <a:avLst>
              <a:gd name="adj1" fmla="val 50000"/>
              <a:gd name="adj2" fmla="val 4988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01BB45-74BF-4A1B-B8AA-FB2401B56C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 di governo (segu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transizione alla </a:t>
            </a:r>
            <a:r>
              <a:rPr b="1" lang="en-US" sz="1800" spc="-1" strike="noStrike">
                <a:solidFill>
                  <a:srgbClr val="000000"/>
                </a:solidFill>
                <a:latin typeface="Times New Roman"/>
              </a:rPr>
              <a:t>forma di governo parlamentare</a:t>
            </a:r>
            <a:r>
              <a:rPr b="0" lang="en-US" sz="1800" spc="-1" strike="noStrike">
                <a:solidFill>
                  <a:srgbClr val="000000"/>
                </a:solidFill>
                <a:latin typeface="Times New Roman"/>
              </a:rPr>
              <a:t> coincide con la definitiva uscita del governo dall’orbita dei poteri del sovrano. In tal modo il governo assume la veste di autonomo organo di decisione politica e si pone in rapporto dialettico con il Parlamento.</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rapporto tra questi due organi viene governato da un istituto peculiare che si chiama </a:t>
            </a:r>
            <a:r>
              <a:rPr b="1" i="1" lang="en-US" sz="1800" spc="-1" strike="noStrike">
                <a:solidFill>
                  <a:srgbClr val="000000"/>
                </a:solidFill>
                <a:latin typeface="Times New Roman"/>
              </a:rPr>
              <a:t>fiducia. </a:t>
            </a:r>
            <a:r>
              <a:rPr b="0" lang="en-US" sz="1800" spc="-1" strike="noStrike">
                <a:solidFill>
                  <a:srgbClr val="000000"/>
                </a:solidFill>
                <a:latin typeface="Times New Roman"/>
              </a:rPr>
              <a:t>Fiducia che viene concessa dal Parlamento al Governo sulla base di un programma di attività che quest’ultimo intende realizzare e che salda il Governo alla maggioranza che ha in Parlamento fino a quando la fiducia persiste.</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o significa che mentre il potere di nomina resta formalmente in capo al sovrano, politicamente il governo diviene responsabile esclusivamente nei confronti del parlamento.</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verifica in tal modo il passaggio da una fase dualista o della doppia fiducia ad una fase monista in cui al centro del sistema si colloca un solo organo: il Parlamento.</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questa forma di governo il Capo dello Stato viene a configurarsi come una sorta di potere neutro, supremo garante delle regole costituzional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8E6A998-F501-4B9E-A323-EB3C05636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orma di governo (segu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a:t>
            </a:r>
            <a:r>
              <a:rPr b="0" i="1" lang="en-US" sz="1600" spc="-1" strike="noStrike">
                <a:solidFill>
                  <a:srgbClr val="000000"/>
                </a:solidFill>
                <a:latin typeface="Times New Roman"/>
              </a:rPr>
              <a:t>crisi </a:t>
            </a:r>
            <a:r>
              <a:rPr b="0" lang="en-US" sz="1600" spc="-1" strike="noStrike">
                <a:solidFill>
                  <a:srgbClr val="000000"/>
                </a:solidFill>
                <a:latin typeface="Times New Roman"/>
              </a:rPr>
              <a:t>del sistema parlamentare si manifesta in relazione a) all’incapacità del Parlamento di rappresentare tutte le istanze provenienti dalla società civile e dal sistema e b) alla difficoltà di dare vita a maggioranze stabili in relazione alla disomogeneità del tessuto sociale ed al frazionamento delle forze politiche (lo starnuto di Altissimo).</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qui l’esigenza di apportare delle </a:t>
            </a:r>
            <a:r>
              <a:rPr b="0" i="1" lang="en-US" sz="1600" spc="-1" strike="noStrike">
                <a:solidFill>
                  <a:srgbClr val="000000"/>
                </a:solidFill>
                <a:latin typeface="Times New Roman"/>
              </a:rPr>
              <a:t>varianti al modello classico</a:t>
            </a:r>
            <a:r>
              <a:rPr b="0" lang="en-US" sz="1600" spc="-1" strike="noStrike">
                <a:solidFill>
                  <a:srgbClr val="000000"/>
                </a:solidFill>
                <a:latin typeface="Times New Roman"/>
              </a:rPr>
              <a:t>, volte 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1) consolidare il principio rappresentativo moltiplicando le sedi di rappresentanza politica a livello locale (valorizzando forme di autonomia territoriale) e gli istituti volti ad una verifica di corrispondenza tra la volontà dei rappresentanti e dei rappresentati (istituti di democrazia diret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vincolare l’operato della maggioranza parlamentare al rispetto della Costituzione dando vita, quindi, a sistemi di giustizia costituziona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iò si accompagna una trasformazione del ruolo del capo dello Stato che viene dotato di poteri non meramente formali, bensì rilevanti ai fini della eliminazione delle cause che impediscono il regolare funzionamento del sistema (scioglimento anticipato).</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C66A49-3F4A-44C1-9B4C-5320BCC8C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rme alternative alla forma di governo parlamentar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forma di governo p</a:t>
            </a:r>
            <a:r>
              <a:rPr b="1" lang="en-US" sz="1600" spc="-1" strike="noStrike">
                <a:solidFill>
                  <a:srgbClr val="000000"/>
                </a:solidFill>
                <a:latin typeface="Times New Roman"/>
              </a:rPr>
              <a:t>residenziale </a:t>
            </a:r>
            <a:r>
              <a:rPr b="0" lang="en-US" sz="1600" spc="-1" strike="noStrike">
                <a:solidFill>
                  <a:srgbClr val="000000"/>
                </a:solidFill>
                <a:latin typeface="Times New Roman"/>
              </a:rPr>
              <a:t>in realtà precede l’affermarsi di quella parlamentare perché viene adottata dagli estensori della costituzione americana del 1787.</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scelta di fondo di questo sistema consiste nel porre al suo centro l’organo presidenziale, che assomma in sé i poteri del Capo dello Stato (come rappresentante dello stato anche sul piano internazionale) e di Capo del Governo, in quanto nomina e revoca i ministr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rapporto fiduciario in questa forma di governo intercorre tra Presidente e Ministri.</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sta concentrazione di potere viene bilanciata, in forza del principio democratico, attraverso l’elezione diretta del Presidente, nonché i poteri di controllo e di freno affidati ad altri organi costituzionali (Parlamento e Corte Suprem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ffetti il Congresso assume un ruolo di rilievo non solo perché ad esso appartiene il potere legislativo, ma anche in quanto è dotato di importanti strumenti di pressione sull’esecutivo, sia mediante l’approvazione degli stanziamenti di bilancio, sia mediante il consenso del Senato alla nomina degli alti funzionari ed alla ratifica dei trattati internazionali, sia infine mediante il ricorso alla procedura di </a:t>
            </a:r>
            <a:r>
              <a:rPr b="0" i="1" lang="en-US" sz="1600" spc="-1" strike="noStrike">
                <a:solidFill>
                  <a:srgbClr val="000000"/>
                </a:solidFill>
                <a:latin typeface="Times New Roman"/>
              </a:rPr>
              <a:t>impeachment. </a:t>
            </a:r>
            <a:r>
              <a:rPr b="0" lang="en-US" sz="1600" spc="-1" strike="noStrike">
                <a:solidFill>
                  <a:srgbClr val="000000"/>
                </a:solidFill>
                <a:latin typeface="Times New Roman"/>
              </a:rPr>
              <a:t>A sua volta</a:t>
            </a:r>
            <a:r>
              <a:rPr b="0" i="1" lang="en-US" sz="1600" spc="-1" strike="noStrike">
                <a:solidFill>
                  <a:srgbClr val="000000"/>
                </a:solidFill>
                <a:latin typeface="Times New Roman"/>
              </a:rPr>
              <a:t> il Presidente </a:t>
            </a:r>
            <a:r>
              <a:rPr b="0" lang="en-US" sz="1600" spc="-1" strike="noStrike">
                <a:solidFill>
                  <a:srgbClr val="000000"/>
                </a:solidFill>
                <a:latin typeface="Times New Roman"/>
              </a:rPr>
              <a:t>ha un rilevante potere di influire sulla legislazione con il veto delle leggi e con la possibilità di segnalare i provvedimenti che ritiene opportuni e convenienti.</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B65641-FAA8-4A0E-B990-B02B66084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rme alternative alla forma di governo parlamentar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forma di governo </a:t>
            </a:r>
            <a:r>
              <a:rPr b="1" lang="it-IT" sz="1600" spc="-1" strike="noStrike">
                <a:solidFill>
                  <a:srgbClr val="000000"/>
                </a:solidFill>
                <a:latin typeface="Times New Roman"/>
              </a:rPr>
              <a:t>semipresidenziale </a:t>
            </a:r>
            <a:r>
              <a:rPr b="0" lang="it-IT" sz="1600" spc="-1" strike="noStrike">
                <a:solidFill>
                  <a:srgbClr val="000000"/>
                </a:solidFill>
                <a:latin typeface="Times New Roman"/>
              </a:rPr>
              <a:t>è caratterizzata da elementi del regime presidenzial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elezione diretta del capo dello Stato                        fiducia tra Presidente e Govern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 anche parlamentare: fiducia del Parlamento nei confronti del Governo     </a:t>
            </a:r>
            <a:r>
              <a:rPr b="0" lang="it-IT" sz="1600" spc="-1" strike="noStrike">
                <a:solidFill>
                  <a:srgbClr val="000000"/>
                </a:solidFill>
                <a:latin typeface="Times New Roman"/>
                <a:ea typeface="Arial Unicode MS"/>
              </a:rPr>
              <a:t> doppia fiduci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Questa formula farebbe presumere una perfetta corrispondenza tra maggioranza che sostiene il Presidente e maggioranza che sostiene il Governo, ma, in realtà, non è così perché in Francia è stata sperimentata con successo la coabitazione (Chirac e Jospin).</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La forma di governo </a:t>
            </a:r>
            <a:r>
              <a:rPr b="1" lang="it-IT" sz="1600" spc="-1" strike="noStrike">
                <a:solidFill>
                  <a:srgbClr val="000000"/>
                </a:solidFill>
                <a:latin typeface="Times New Roman"/>
                <a:ea typeface="Arial Unicode MS"/>
              </a:rPr>
              <a:t>direttoriale </a:t>
            </a:r>
            <a:r>
              <a:rPr b="0" lang="it-IT" sz="1600" spc="-1" strike="noStrike">
                <a:solidFill>
                  <a:srgbClr val="000000"/>
                </a:solidFill>
                <a:latin typeface="Times New Roman"/>
                <a:ea typeface="Arial Unicode MS"/>
              </a:rPr>
              <a:t>è fondamentalmente volta a garantire la stabilità dell’esecutivo, prefissandone la durata e spesso legandola a quella dell’intera legislatur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Arial Unicode MS"/>
              </a:rPr>
              <a:t>Per evitare sopraffazioni della maggioranza postula ampie coalizioni e la possibilità di attivare facilmente strumenti di controllo sulla corrispondenza tra volontà dei cittadini e rappresentanti           </a:t>
            </a:r>
            <a:r>
              <a:rPr b="0" i="1" lang="it-IT" sz="1600" spc="-1" strike="noStrike">
                <a:solidFill>
                  <a:srgbClr val="000000"/>
                </a:solidFill>
                <a:latin typeface="Times New Roman"/>
                <a:ea typeface="Arial Unicode MS"/>
              </a:rPr>
              <a:t>referendum.</a:t>
            </a:r>
            <a:endParaRPr b="0" lang="en-US" sz="1600" spc="-1" strike="noStrike">
              <a:solidFill>
                <a:srgbClr val="000000"/>
              </a:solidFill>
              <a:latin typeface="Times New Roman"/>
            </a:endParaRPr>
          </a:p>
        </p:txBody>
      </p:sp>
      <p:sp>
        <p:nvSpPr>
          <p:cNvPr id="75" name=""/>
          <p:cNvSpPr/>
          <p:nvPr/>
        </p:nvSpPr>
        <p:spPr>
          <a:xfrm>
            <a:off x="4572000" y="2819520"/>
            <a:ext cx="7632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 name=""/>
          <p:cNvSpPr/>
          <p:nvPr/>
        </p:nvSpPr>
        <p:spPr>
          <a:xfrm>
            <a:off x="4724280" y="2819520"/>
            <a:ext cx="76320" cy="759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7" name=""/>
          <p:cNvSpPr/>
          <p:nvPr/>
        </p:nvSpPr>
        <p:spPr>
          <a:xfrm>
            <a:off x="4191120" y="3200400"/>
            <a:ext cx="7596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5105520" y="3200400"/>
            <a:ext cx="75960" cy="763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4648320" y="2514600"/>
            <a:ext cx="75960" cy="152280"/>
          </a:xfrm>
          <a:prstGeom prst="down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5791320"/>
            <a:ext cx="152280" cy="75960"/>
          </a:xfrm>
          <a:prstGeom prst="rightArrow">
            <a:avLst>
              <a:gd name="adj1" fmla="val 50000"/>
              <a:gd name="adj2" fmla="val 50118"/>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238880" y="3657600"/>
            <a:ext cx="152640" cy="76320"/>
          </a:xfrm>
          <a:prstGeom prst="rightArrow">
            <a:avLst>
              <a:gd name="adj1" fmla="val 50000"/>
              <a:gd name="adj2" fmla="val 50000"/>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DDD8B8-918A-4B37-8901-973DD926E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11:13:10Z</dcterms:created>
  <dc:creator>Giovanni Cocco</dc:creator>
  <dc:description/>
  <dc:language>en-US</dc:language>
  <cp:lastModifiedBy>asegreteria</cp:lastModifiedBy>
  <dcterms:modified xsi:type="dcterms:W3CDTF">2004-10-04T08:36:21Z</dcterms:modified>
  <cp:revision>34</cp:revision>
  <dc:subject/>
  <dc:title>Istituzioni di diritto Pubblico 2</dc:title>
</cp:coreProperties>
</file>