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2DA3-D1B6-441B-BED7-F87098CD6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B705-866E-4323-92E5-D19F26580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9E0D6-6287-45A5-8345-9939A2D2E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25557-E39F-4462-B083-ECC3526E7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4D358-4C0D-42C7-AAE0-277083B8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03A7-4C33-4257-B225-E1D16185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B12D-C19D-4BE2-8B75-A51D4463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7FBBD-521F-43E7-B704-8B7CD288E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4A078-DE60-4D2E-B1F3-ED14E183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712C-9FC1-44F0-829E-7D504539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AC34-A147-49F5-8CD7-21075AFF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B184-B791-471D-9BD9-4CD97E6F4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6B1A-DE51-4BB3-8151-55FFE61D4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ituzioni di diritto pubblico III</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i organi costituzional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BD5F5A-1D29-41D4-8B5E-E45F3BFFBB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elettoral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ro requisito positivo è quello della maggiore età, per il quale l’art. 48 rinvia alla determinazione da parte della legge (alla Camera: elettorato attivo 18 anni, elettorato passivo 25 anni; al Senato: elettorato attivo 25 anni, elettorato passivo 40 ann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equisiti negativi sono oramai limitatissimi e sono quelli previsti dal d. P. R. 20 marzo 1967, n. 223, e successive modificazioni. Possono votare anche gli interdetti e gli inabilitati ed anche i membri di casa Savoia a decorrere dall’entrata in vigore della L. cost. 23 ottobre 2002, n. 1. Il divieto resta solo per coloro che sono soggetti a particolari provvedimenti del giudice (i falliti per il tempo in cui dura il fallimento, coloro che sono sottoposti a particolari misure di prevenzione e di sicurezza, se divenute definitive, coloro che siano stati condannati per reati che comportano l’interdizione perpetua dai pubblici uffic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13ABB1-6EE1-4F3E-82DB-8D2CD073C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arlamento (la struttur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rPr>
              <a:t>Il bicameralismo</a:t>
            </a:r>
            <a:r>
              <a:rPr b="0" lang="it-IT" sz="1600" spc="-1" strike="noStrike">
                <a:solidFill>
                  <a:srgbClr val="000000"/>
                </a:solidFill>
                <a:latin typeface="Times New Roman"/>
              </a:rPr>
              <a:t> dall’esperienza costituzionale precedente viene ereditata la struttura bicamerale, con l’unica variante costituita dall’introduzione del Parlamento in seduta comune. Novità, che non è però in grado di mutare la sostanza del modello, che non ritrova più le ragioni che lo avevano legittimato al tempo dello Statuto albertino (allora, una seconda camera di nomina regia era vista in funzione di contrappeso politico).</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dire il vero i costituenti discussero a lungo sulle formule adatte ad una possibile differenziazione, alla fine però queste formule vennero accantonate a favore di una formula di bicameralismo uguale e paritario, nel quale entrambi i rami del Parlamento esercitano i medesimi poteri e gli atti parlamentari sono il frutto dell’accordo necessario delle due Camere. Una giustificazione (debole) si rifà alla funzione di decantazione delle decisioni assunte dall’altro ramo del Parlamento. Ed una differenza è costituita dal numero dei membri delle due Camere.</a:t>
            </a:r>
            <a:endParaRPr b="0" lang="en-US" sz="16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bicameralismo eguale, paritario ed indifferenziato soffre di crisi di funzionalità interna dovute. A fronte di queste le proposte di modifica tendono ad introdurre una differenziazione tra i due rami del Parlamento che può avere riguardo: a) o al tipo di rappresentanza (Senato delle Regioni); b) alla differenziazione delle funzioni (quella legislativa ad un ramo, quella di controllo all’altro, con possibilità di doppia lettura solo per particolari tipi di leggi.</a:t>
            </a:r>
            <a:endParaRPr b="0" lang="en-US" sz="1600" spc="-1" strike="noStrike">
              <a:solidFill>
                <a:srgbClr val="000000"/>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44A19BA-7890-4597-9AF7-4AE38D2B8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 parlamentar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i: art. 64 ed art. 7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disposizioni della Costituzione hanno un ruolo fondamentale nel determinare i rapporti tra Parlamento e Governo e tra maggioranza ed opposizione. Ruolo altrettanto importante assumono i regolamenti parlamentari.</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p. costituiscono uno strumento atto ad integrare la disciplina costituzionale relativa alla struttura ed all’esercizio delle funzioni del Parlamento.</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articolare maggioranza richiesta per la loro approvazione (maggioranza assoluta dei componenti di ciascuna Camera) tende a garantire le minoranze ed il loro ruolo in Parlamen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44B1A-14FB-46F6-8E83-CA3ADBBC9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 parlamentar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regole che riguardano l’esercizio delle funzioni che spettano ai numerosi organi che compongono la struttura parlamentare (i regolamenti parlamentari) non hanno un asettico contenuto “organizzatorio”, ma toccano nel vivo il rapporto tra le forze politiche presenti in Parlament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nto e come ci sia corrispondenza tra regolamenti parlamentari ed evoluzione del rapporto tra maggioranza ed opposizione è confermato dalle vicende che hanno accompagnato l’approvazione dei regolamenti parlamentari.</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regolamenti del 1971 sono lo specchio della stagione della centralità del Parlamen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731A9B-21C5-43DC-A3F0-6FF5D8A6D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 parlamentar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qui gli strumenti recepiti nei regolamen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con la previsione dell’accentuazione dei poteri di </a:t>
            </a:r>
            <a:r>
              <a:rPr b="0" lang="it-IT" sz="2400" spc="-1" strike="noStrike" u="sng">
                <a:solidFill>
                  <a:srgbClr val="000000"/>
                </a:solidFill>
                <a:uFillTx/>
                <a:latin typeface="Times New Roman"/>
              </a:rPr>
              <a:t>indirizzo e controllo</a:t>
            </a:r>
            <a:r>
              <a:rPr b="0" lang="it-IT" sz="2400" spc="-1" strike="noStrike">
                <a:solidFill>
                  <a:srgbClr val="000000"/>
                </a:solidFill>
                <a:latin typeface="Times New Roman"/>
              </a:rPr>
              <a:t> non solo delle due Assemblee, ma anche dei loro principali organi interni: le Commissioni (che possono votare risoluzioni impegnative per il Gov);</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l’arricchimento dei poteri di informazione (con la previsione di </a:t>
            </a:r>
            <a:r>
              <a:rPr b="0" lang="it-IT" sz="2400" spc="-1" strike="noStrike" u="sng">
                <a:solidFill>
                  <a:srgbClr val="000000"/>
                </a:solidFill>
                <a:uFillTx/>
                <a:latin typeface="Times New Roman"/>
              </a:rPr>
              <a:t>udienze conoscitive</a:t>
            </a:r>
            <a:r>
              <a:rPr b="0" lang="it-IT" sz="2400" spc="-1" strike="noStrike">
                <a:solidFill>
                  <a:srgbClr val="000000"/>
                </a:solidFill>
                <a:latin typeface="Times New Roman"/>
                <a:ea typeface="Arial Unicode MS"/>
              </a:rPr>
              <a:t>       canali informativi indipendenti da quelli del Gover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Unicode MS"/>
              </a:rPr>
              <a:t>     </a:t>
            </a:r>
            <a:r>
              <a:rPr b="0" lang="it-IT" sz="2400" spc="-1" strike="noStrike">
                <a:solidFill>
                  <a:srgbClr val="000000"/>
                </a:solidFill>
                <a:latin typeface="Times New Roman"/>
                <a:ea typeface="Arial Unicode MS"/>
              </a:rPr>
              <a:t>- </a:t>
            </a:r>
            <a:r>
              <a:rPr b="0" lang="it-IT" sz="2400" spc="-1" strike="noStrike" u="sng">
                <a:solidFill>
                  <a:srgbClr val="000000"/>
                </a:solidFill>
                <a:uFillTx/>
                <a:latin typeface="Times New Roman"/>
                <a:ea typeface="Arial Unicode MS"/>
              </a:rPr>
              <a:t>statuto delle opposizioni</a:t>
            </a:r>
            <a:r>
              <a:rPr b="0" lang="it-IT" sz="2400" spc="-1" strike="noStrike">
                <a:solidFill>
                  <a:srgbClr val="000000"/>
                </a:solidFill>
                <a:latin typeface="Times New Roman"/>
                <a:ea typeface="Arial Unicode MS"/>
              </a:rPr>
              <a:t> parlamentari, con la possibilità di coinvolgerle in alcune decisioni fondamentali.</a:t>
            </a:r>
            <a:endParaRPr b="0" lang="en-US" sz="2400" spc="-1" strike="noStrike">
              <a:solidFill>
                <a:srgbClr val="000000"/>
              </a:solidFill>
              <a:latin typeface="Times New Roman"/>
            </a:endParaRPr>
          </a:p>
        </p:txBody>
      </p:sp>
      <p:sp>
        <p:nvSpPr>
          <p:cNvPr id="71" name=""/>
          <p:cNvSpPr/>
          <p:nvPr/>
        </p:nvSpPr>
        <p:spPr>
          <a:xfrm>
            <a:off x="5334120" y="4495680"/>
            <a:ext cx="304560" cy="76320"/>
          </a:xfrm>
          <a:prstGeom prst="rightArrow">
            <a:avLst>
              <a:gd name="adj1" fmla="val 50000"/>
              <a:gd name="adj2" fmla="val 99764"/>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A4780-4834-460A-BCB5-3DD1FEB804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regolamenti parlamentari</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le successive modifiche si inverte decisamente il segno, sicché si tende da una parte ad accentuare il ruolo del Governo (rafforzandone la capacità di mantenere solida la sua maggioranza) e dall’altra a ricondurre l’opposizione nell’alveo tradizionale, riducendo i margini di co-decisione.</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qui:  </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bolizione del voto segreto</a:t>
            </a:r>
            <a:r>
              <a:rPr b="0" lang="it-IT" sz="2400" spc="-1" strike="noStrike">
                <a:solidFill>
                  <a:srgbClr val="000000"/>
                </a:solidFill>
                <a:latin typeface="Times New Roman"/>
              </a:rPr>
              <a:t>, tranne che in pochi casi (votazioni su persone o su diritti di libertà).</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Arricchimento dei poteri del Governo</a:t>
            </a:r>
            <a:r>
              <a:rPr b="0" lang="it-IT" sz="2400" spc="-1" strike="noStrike">
                <a:solidFill>
                  <a:srgbClr val="000000"/>
                </a:solidFill>
                <a:latin typeface="Times New Roman"/>
              </a:rPr>
              <a:t>: a) votazione di fiducia; b) procedimenti abbreviati per i d.l.; c) programmazione dei lavo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249C37-D45F-4B83-B90B-A26CD4B44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esidente di Assemble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o: art. 63 Costituzione.</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 i primi adempimenti cui le Camere appena entrate in funzione sono chiamate figura quello di eleggere, tra i propri membri, il Presidente di Assemble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previste differenti modalità di elezione nei due rami del Parlamento, in quanto si tende a favorire una più rapida scelta del Presidente del Senato, che ha il compito di supplire il Presidente della Repubblica. In ogni caso si tratta di </a:t>
            </a:r>
            <a:r>
              <a:rPr b="0" i="1" lang="en-US" sz="2400" spc="-1" strike="noStrike">
                <a:solidFill>
                  <a:srgbClr val="000000"/>
                </a:solidFill>
                <a:latin typeface="Times New Roman"/>
              </a:rPr>
              <a:t>quorum </a:t>
            </a:r>
            <a:r>
              <a:rPr b="0" lang="en-US" sz="2400" spc="-1" strike="noStrike">
                <a:solidFill>
                  <a:srgbClr val="000000"/>
                </a:solidFill>
                <a:latin typeface="Times New Roman"/>
              </a:rPr>
              <a:t> tendenzialmente più elevati della maggioranza semplice onde evitare che il </a:t>
            </a:r>
            <a:r>
              <a:rPr b="0" lang="en-US" sz="2400" spc="-1" strike="noStrike">
                <a:solidFill>
                  <a:srgbClr val="000000"/>
                </a:solidFill>
                <a:latin typeface="Times New Roman"/>
                <a:ea typeface="Arial Unicode MS"/>
              </a:rPr>
              <a:t>Presidente resti legato da un rapporto troppo intenso con la maggioranza che lo ha elett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ratteristica di questo organo dovrebbe essere lo svolgimento in modo imparziale delle sue funzioni.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3714EC-11B9-4F88-B9F2-BA2D89F834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cora sull’organizzazione delle Camer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a queste si annoverano: 1) il potere di dirigere la discussione e garantire il rispetto del regolamento, con i connessi, incisivi, poteri relativi alla 2) programmazione dei lavori parlamentari ed 3) i poteri di nomina di alcune autorità amministrative indipendenti.</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 gruppi parlamentari.</a:t>
            </a:r>
            <a:r>
              <a:rPr b="0" lang="it-IT" sz="2400" spc="-1" strike="noStrike">
                <a:solidFill>
                  <a:srgbClr val="000000"/>
                </a:solidFill>
                <a:latin typeface="Times New Roman"/>
              </a:rPr>
              <a:t> Riferimenti: art. 14 Reg. Senato ed art. 14 Reg. Camera.</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ostante quanto statuisce l’art. 67 della Costituzione, il lavoro che si svolge nel nostro Parlamento fa costantemente riferimento ai gruppi e non potrebbe nemmeno concepirsi senza il loro apporto.</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evitare una eccessiva parcellizzazione organizzativa, i reg. parlamentari hanno stabilito una sogli minima per la costituzione di un gruppo: 20 deputati e 10 senato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059C1-DCFB-4FFA-971A-6B3D8D5D3B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gruppi parlamentari</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fficio di Presidenza può autorizzare la costituzione di gruppi con un numero inferiore di membri, quando si tratti però di gruppi rappresentativi di partiti, che abbiano: a) un’organizzazione su base nazionale; b) abbiano comunque conseguito un significativo successo elettorale.</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desione ad un gruppo è condizione dello </a:t>
            </a:r>
            <a:r>
              <a:rPr b="0" i="1" lang="en-US" sz="2400" spc="-1" strike="noStrike">
                <a:solidFill>
                  <a:srgbClr val="000000"/>
                </a:solidFill>
                <a:latin typeface="Times New Roman"/>
              </a:rPr>
              <a:t>status</a:t>
            </a:r>
            <a:r>
              <a:rPr b="0" lang="en-US" sz="2400" spc="-1" strike="noStrike">
                <a:solidFill>
                  <a:srgbClr val="000000"/>
                </a:solidFill>
                <a:latin typeface="Times New Roman"/>
              </a:rPr>
              <a:t> di parlamentare, quindi essa è obbligatoria, tant’è che, il parlamentare che non opera alcuna scelta viene iscritto d’ufficio al gruppo misto.</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nterno del gruppo vengono definite le linee di condotta da tenere nel corso della discussione in Assemblea (oratore di grupp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6CAA42-6AB3-4ECD-90DC-96194982A7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gruppi parlamentari</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gruppo designa i propri rappresentanti nelle Commissioni;</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gruppo attraverso il suo Presidente svolge un ruolo importante nella definizione del programma e del calendario dei lavori della Camera.</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singolo parlamentare riceve supporto ad opera del gruppo, ma è anche tenuto al rispetto della disciplina di gruppo (frusta). Con la possibilità che siano stabilite delle sanzioni a carico del parlamentare dissidente. Naturalmente anche nel caso di infrazioni gravi il parlamentare potrà continuare a svolgere le sue funzioni, servendosi dello scudo dell’art. 6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B1059E-C24B-4395-8418-BD96319E01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nozione di organo costituziona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oluzione della forma di governo altro non rappresenta se non il modo in cui si sono venuti sviluppando nelle varie epoche storiche gli equilibri tra i massimi organi dello Stato, quelli in cui, cioè, si disloca il massimo del potere politico.</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tratta degli organi tra i quali si riparte la </a:t>
            </a:r>
            <a:r>
              <a:rPr b="0" i="1" lang="en-US" sz="1600" spc="-1" strike="noStrike">
                <a:solidFill>
                  <a:srgbClr val="000000"/>
                </a:solidFill>
                <a:latin typeface="Times New Roman"/>
              </a:rPr>
              <a:t>funzione di indirizzo politico.</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funzione di indirizzo politico non corrisponde ad alcuna tra le tre funzioni tradizionali, ma in qualche modo le riassume tutte, nel senso che rappresenta la funzione con cui si determinano le linee lungo le quali le diverse funzioni statali devono essere esercitate e gli obiettivi che, attraverso queste ultime, devono essere raggiunti. </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altro anche la funzione di indirizzo politico è tenuta al rispetto delle regole costituzionali ed al medesimo rispetto sono tenuti gli organi costituzionali che la esercitano.</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cché si può dire che organi costituzionali sono quelli che trovano nel dettato costituzionale la loro disciplina fondamentale e che esercitano la funzione di indirizzo politico nel quadro delle regole e dei limiti posti dalla Costituzione.</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rappresentatività è pure una caratteristica degli organi costituzionali, se la si intende come rapporto che gli stessi hanno con quello che si potrebbe dire l’</a:t>
            </a:r>
            <a:r>
              <a:rPr b="0" i="1" lang="en-US" sz="1600" spc="-1" strike="noStrike">
                <a:solidFill>
                  <a:srgbClr val="000000"/>
                </a:solidFill>
                <a:latin typeface="Times New Roman"/>
              </a:rPr>
              <a:t>organo costituzionale di base</a:t>
            </a:r>
            <a:r>
              <a:rPr b="0" lang="en-US" sz="1600" spc="-1" strike="noStrike">
                <a:solidFill>
                  <a:srgbClr val="000000"/>
                </a:solidFill>
                <a:latin typeface="Times New Roman"/>
              </a:rPr>
              <a:t>, ossia il popolo: tutti gli organi costituzionali sono rappresentativi in quanto espressioni del popolo.</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4D25A54-5A7D-4194-9818-85CEF3172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Giunte e le Commissioni parlamentar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amere, al loro interno, si articolano in alcune strutture permanenti più ristrette, che sono le Giunte e le Commissioni, composte –per quanto possibile- con la rappresentanza dell’intero arco delle forze politiche presenti in Parlamento.</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 Camera dei deputati ci sono: </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Giunta per il regolamento, che si occupa delle modifiche parlamentari e dà pareri sull’interpretazione del regolamento</a:t>
            </a:r>
            <a:endParaRPr b="0" lang="en-US" sz="2400" spc="-1" strike="noStrike">
              <a:solidFill>
                <a:srgbClr val="000000"/>
              </a:solidFill>
              <a:latin typeface="Times New Roman"/>
            </a:endParaRPr>
          </a:p>
          <a:p>
            <a:pPr marL="585000" indent="-5850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Giunta per le elezioni, che compie la c.d. verifica dei poteri, sulla regolarità delle operazioni elettorali, e giudica delle cause di ineleggibilità ed incompatibilità</a:t>
            </a:r>
            <a:endParaRPr b="0" lang="en-US" sz="2400" spc="-1" strike="noStrike">
              <a:solidFill>
                <a:srgbClr val="000000"/>
              </a:solidFill>
              <a:latin typeface="Times New Roman"/>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AC7C6-AC4C-431F-A2CA-570921303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Giunte e le Commissioni parlamentari</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Giunta per le autorizzazioni a procedere, che esamina le richieste di sottoposizione a misure limitative della libertà dei singoli parlamentari.</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 Senato figurano solo la Giunta per il regolamento e la Giunta per le elezioni e le immunità parlamentari.</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mmissioni parlamentari. </a:t>
            </a:r>
            <a:r>
              <a:rPr b="0" lang="it-IT" sz="2400" spc="-1" strike="noStrike">
                <a:solidFill>
                  <a:srgbClr val="000000"/>
                </a:solidFill>
                <a:latin typeface="Times New Roman"/>
              </a:rPr>
              <a:t>Riferimenti: artt. 72 e 82 Costituzione.</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 possono essere:</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      Commissioni temporanee, costituite per lo svolgimento di compiti specifici, che durano in carica per il tempo necessario a questo adempimento (Commissione d’inchiesta sul caso Telecom Serbi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917209-84EE-4C01-B48D-B63999D1A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Giunte e le Commissioni parlamentari</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ssioni permanenti, che hanno la durata della camera di appartenenza ed intervengono necessariamente sia nell’esercizio della funzioni legislativa (art. 72 Cost.), sia nell’esercizio della funzione di indirizzo e controllo dell’attività di governo. Hanno una competenza per materia che, in qualche modo, riflette l’articolazione dei Ministeri, sia pure con minore frammentazione. </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istono anche delle Commissioni bicamerali, composte da Deputati e Senatori. L’archetipo di esse è costituito dalla Commissione bicamerale per le questioni regionali, di cui all’art. 126, comma 1 della Costituzione. Possono peraltro essere istituite anche con legg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AF01B2-627A-4CD5-9F78-FDB6B9888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Giunte e le Commissioni parlamentari</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e le Commissioni bicamerali possono essere permanenti e temporanee e svolgono le seguenti funzioni: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vigilanza e di indirizzo (Commissione di vigilanza sulla Rai TV)</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vigilanza e controllo (Comitato parlamentare per i servizi di informazione e di sicurezz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onsultive, con riferimento alle funzioni legate alla legislazione delegata.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FAD89A-55B2-4451-A4B6-124DCECCE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 </a:t>
            </a:r>
            <a:r>
              <a:rPr b="0" i="1" lang="en-US" sz="4400" spc="-1" strike="noStrike">
                <a:solidFill>
                  <a:srgbClr val="000000"/>
                </a:solidFill>
                <a:latin typeface="Times New Roman"/>
              </a:rPr>
              <a:t>status </a:t>
            </a:r>
            <a:r>
              <a:rPr b="0" lang="en-US" sz="4400" spc="-1" strike="noStrike">
                <a:solidFill>
                  <a:srgbClr val="000000"/>
                </a:solidFill>
                <a:latin typeface="Times New Roman"/>
              </a:rPr>
              <a:t>di membro del Parlamento</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tratta di vedere in che cosa consiste questo </a:t>
            </a:r>
            <a:r>
              <a:rPr b="0" i="1" lang="it-IT" sz="2400" spc="-1" strike="noStrike">
                <a:solidFill>
                  <a:srgbClr val="000000"/>
                </a:solidFill>
                <a:latin typeface="Times New Roman"/>
              </a:rPr>
              <a:t>status </a:t>
            </a:r>
            <a:r>
              <a:rPr b="0" lang="it-IT" sz="2400" spc="-1" strike="noStrike">
                <a:solidFill>
                  <a:srgbClr val="000000"/>
                </a:solidFill>
                <a:latin typeface="Times New Roman"/>
              </a:rPr>
              <a:t>e che cosa ne determina la perdita.</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ndacabilità dei voti dati e delle opinioni espresse </a:t>
            </a:r>
            <a:r>
              <a:rPr b="0" lang="it-IT" sz="2400" spc="-1" strike="noStrike">
                <a:solidFill>
                  <a:srgbClr val="000000"/>
                </a:solidFill>
                <a:latin typeface="Times New Roman"/>
              </a:rPr>
              <a:t>(art. 68 Costituzione), si traduce nel fatto che, a differenza di ogni altro cittadino, il parlamentare gode di una libertà di manifestazione delle sue opinioni più ampia, che si traduce nella non perseguibilità sia sul piano penale, sia su quello civile, sia su quello amministrativo. La libertà di esprimere le proprie opinioni non incontra altri limiti se non quelli rappresentati dalle sanzioni del P. d. A.</a:t>
            </a:r>
            <a:endParaRPr b="0" lang="en-US" sz="24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è discusso molto se questa guarentigia copre solo le opinioni espresse nelle aule parlamentari ovvero nell’esercizio dell’attività politica in senso lato.</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0BBE42-26B2-47D9-8BA4-18EB79E3A9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 </a:t>
            </a:r>
            <a:r>
              <a:rPr b="0" i="1" lang="en-US" sz="4400" spc="-1" strike="noStrike">
                <a:solidFill>
                  <a:srgbClr val="000000"/>
                </a:solidFill>
                <a:latin typeface="Times New Roman"/>
              </a:rPr>
              <a:t>status </a:t>
            </a:r>
            <a:r>
              <a:rPr b="0" lang="en-US" sz="4400" spc="-1" strike="noStrike">
                <a:solidFill>
                  <a:srgbClr val="000000"/>
                </a:solidFill>
                <a:latin typeface="Times New Roman"/>
              </a:rPr>
              <a:t>di membro del Parlamento</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prassi fino ad ora seguita è stata in senso estensivo, aggiungendosi ad un’insindacabilità propria (opinioni espresse nelle aule parlamentari) un’insindacabilità impropria. Per quest’ultima le Camere hanno fatto ampiamente ricorso all’autorizzazione a procedere (negandola il più delle vol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stato però ritenuto ammissibile il conflitto di attribuzioni sollevato dalla magistratura nell’ipotesi in cui l’autorità giudiziaria abbia ritenuto la valutazione non avvenuta correttamente e quindi con pregiudizio delle competenze del giud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D3785C-BCA5-469A-B88D-48450DBD9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iolabilità</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riginariamente l’istituto (art. 68, c. 2 della Cost.) stava a significare la non sottoponibilità a procedimento penale, o all’arresto o ad altre misure limitative della libertà personale senza autorizzazione a procedere della camera di appartenenza. A meno che non si verificasse un caso di flagranza di reato (ossia ove il parlamentare fosse stato colto nell’atto di commettere un reato di particolare gravità, per il quale la legge prevede come obbligatorio il mandato o ordine di cattura).</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Questa guarentigia copriva anche l’arresto collegato ad un procedimento penale in corso, ovvero ad un procedimento conclusosi con una sentenza penale di condanna irrevocabi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A649DE-FEA5-4C1B-A339-442D0584A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iolabilità</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prio con riferimento a quest’ultima ipotesi è stato stigmatizzato l’eccesso di garantismo della previsione del costituente, sicché si è giunti alla riforma della norma con la L. cost. n. 3/1993.</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utorizzazione resta obbligatoria solo per sottoporre il parlamentare ad una misura limitativa della libertà personale o per la limitazione della libertà di corrispondenza e di comunicazion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amera di appartenenza deve accertare esclusivamente l’eventuale sussistenza di un </a:t>
            </a:r>
            <a:r>
              <a:rPr b="0" i="1" lang="it-IT" sz="2400" spc="-1" strike="noStrike">
                <a:solidFill>
                  <a:srgbClr val="000000"/>
                </a:solidFill>
                <a:latin typeface="Times New Roman"/>
              </a:rPr>
              <a:t>fumus persecutionis</a:t>
            </a:r>
            <a:r>
              <a:rPr b="0" lang="it-IT" sz="2400" spc="-1" strike="noStrike">
                <a:solidFill>
                  <a:srgbClr val="000000"/>
                </a:solidFill>
                <a:latin typeface="Times New Roman"/>
              </a:rPr>
              <a:t> ovvero di un intento persecutorio o intimidatorio da parte dell’autorità inquirente, in quanto tende ad impedire il normale esercizio delle funzioni parlamenta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50C834-7154-489C-B65A-EA0ECE05F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funzionamento delle Came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ci può essere soluzione di continuità nell’organo. Pertanto nel periodo di tempo necessario all’insediamento delle nuove Camere quelle scadute vedono prorogati i propri poteri (art. 61, c. 2), che non vuol dire la propria durata (ciò è esplicitamente escluso dall’art. 60, c.2 Cost.).</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Unico limite esplicito all’esercizio di detti poteri è quello dell’art. 85, c. 3 Cost.:divieto di procedere all’elezione del P.d.R. a Camere sciolte o nei tre mesi anteriori allo sciogli.</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periodo di </a:t>
            </a:r>
            <a:r>
              <a:rPr b="0" i="1" lang="it-IT" sz="2400" spc="-1" strike="noStrike">
                <a:solidFill>
                  <a:srgbClr val="000000"/>
                </a:solidFill>
                <a:latin typeface="Times New Roman"/>
              </a:rPr>
              <a:t>prorogatio</a:t>
            </a:r>
            <a:r>
              <a:rPr b="0" lang="it-IT" sz="2400" spc="-1" strike="noStrike">
                <a:solidFill>
                  <a:srgbClr val="000000"/>
                </a:solidFill>
                <a:latin typeface="Times New Roman"/>
              </a:rPr>
              <a:t> possono procedere soltanto alla c.d. ordinaria amministrazione, esclusi gli atti della ordinaria attività legislativa e di controllo, ma compresi gli atti costituzionalmente indifferibili (conversione di d.l., approvazione della L. di bilancio, autorizzazione alla ratifica dei trattati internazional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4A62FE-1500-4875-AE50-8F4D0E2BD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validità delle sedute e delle delibe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erimento: art. 64, c. 3 della Costituzion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ilisce questa disposizione che il numero legale per la validità delle sedute è pari alla metà più uno dei componenti dell’orga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per la validità delle deliberazioni è pari alla metà più uno dei present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umero legale si presume esistente e può essere verificato solo su iniziativa del P.d.A. oppure di un certo numero dei componenti dell’orga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la validità delle deliberazioni gli astenuti vengono computati come non presenti alla Camera (e questo abbassa il </a:t>
            </a:r>
            <a:r>
              <a:rPr b="0" i="1" lang="en-US" sz="2400" spc="-1" strike="noStrike">
                <a:solidFill>
                  <a:srgbClr val="000000"/>
                </a:solidFill>
                <a:latin typeface="Times New Roman"/>
              </a:rPr>
              <a:t>quorum), </a:t>
            </a:r>
            <a:r>
              <a:rPr b="0" lang="en-US" sz="2400" spc="-1" strike="noStrike">
                <a:solidFill>
                  <a:srgbClr val="000000"/>
                </a:solidFill>
                <a:latin typeface="Times New Roman"/>
              </a:rPr>
              <a:t>come presenti al Senato. Alcuni governi si sono retti sull’astensione di certi grupp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A0CF9E-88CD-425C-B893-EEFB6D943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i organi costituzionali (segu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e si è accennato gli organi costituzionali sono quelli che trovano nel dettato costituzionale la loro disciplina fondamentale. In quanto organi chiamati all’esercizio dei poteri sovrani, essi saranno anche organi </a:t>
            </a:r>
            <a:r>
              <a:rPr b="1" i="1" lang="en-US" sz="2000" spc="-1" strike="noStrike">
                <a:solidFill>
                  <a:srgbClr val="000000"/>
                </a:solidFill>
                <a:latin typeface="Times New Roman"/>
              </a:rPr>
              <a:t>necessari</a:t>
            </a:r>
            <a:r>
              <a:rPr b="0" i="1" lang="en-US" sz="2000" spc="-1" strike="noStrike">
                <a:solidFill>
                  <a:srgbClr val="000000"/>
                </a:solidFill>
                <a:latin typeface="Times New Roman"/>
              </a:rPr>
              <a:t> </a:t>
            </a:r>
            <a:r>
              <a:rPr b="0" lang="en-US" sz="2000" spc="-1" strike="noStrike">
                <a:solidFill>
                  <a:srgbClr val="000000"/>
                </a:solidFill>
                <a:latin typeface="Times New Roman"/>
              </a:rPr>
              <a:t>al corretto funzionamento dell’ordinamento, e, nello svolgimento delle loro funzioni saranno altresì </a:t>
            </a:r>
            <a:r>
              <a:rPr b="1" i="1" lang="en-US" sz="2000" spc="-1" strike="noStrike">
                <a:solidFill>
                  <a:srgbClr val="000000"/>
                </a:solidFill>
                <a:latin typeface="Times New Roman"/>
              </a:rPr>
              <a:t>indipendenti</a:t>
            </a:r>
            <a:r>
              <a:rPr b="0" lang="en-US" sz="2000" spc="-1" strike="noStrike">
                <a:solidFill>
                  <a:srgbClr val="000000"/>
                </a:solidFill>
                <a:latin typeface="Times New Roman"/>
              </a:rPr>
              <a:t> , cioè potranno operare liberamente senza condizionamenti o limiti da altri organi ad eccezione di quelli previsti in Costituzione. Infine, nell’esercizio dei loro compiti non possono essere, se non eccezionalmente, sostituiti da altri organi: sono cioè </a:t>
            </a:r>
            <a:r>
              <a:rPr b="1" i="1" lang="en-US" sz="2000" spc="-1" strike="noStrike">
                <a:solidFill>
                  <a:srgbClr val="000000"/>
                </a:solidFill>
                <a:latin typeface="Times New Roman"/>
              </a:rPr>
              <a:t>indefettibili.</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primo, tra gli organi costituzionali che andiamo ad esaminare è il popolo.</a:t>
            </a:r>
            <a:endParaRPr b="0" lang="en-US" sz="20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lazione a quanto abbiamo già detto commentando l’art. 1 Cost., possiamo ricordare che l’esercizio delle funzioni fondamentali dello Stato non può avvenire se non a seguito dell’attivazione di istituti che chiamano in causa direttamente il popolo, e – più precisamente- il </a:t>
            </a:r>
            <a:r>
              <a:rPr b="0" i="1" lang="en-US" sz="2000" spc="-1" strike="noStrike">
                <a:solidFill>
                  <a:srgbClr val="000000"/>
                </a:solidFill>
                <a:latin typeface="Times New Roman"/>
              </a:rPr>
              <a:t>corpo elettora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A8C391B-7D4E-4BAA-9BD7-4EF3115D1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modalità del voto</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rmalmente</a:t>
            </a:r>
            <a:r>
              <a:rPr b="0" lang="en-US" sz="2400" spc="-1" strike="noStrike">
                <a:solidFill>
                  <a:srgbClr val="000000"/>
                </a:solidFill>
                <a:latin typeface="Times New Roman"/>
              </a:rPr>
              <a:t> si utilizza il voto </a:t>
            </a:r>
            <a:r>
              <a:rPr b="0" i="1" lang="en-US" sz="2400" spc="-1" strike="noStrike">
                <a:solidFill>
                  <a:srgbClr val="000000"/>
                </a:solidFill>
                <a:latin typeface="Times New Roman"/>
              </a:rPr>
              <a:t>palese</a:t>
            </a:r>
            <a:r>
              <a:rPr b="0" lang="en-US" sz="2400" spc="-1" strike="noStrike">
                <a:solidFill>
                  <a:srgbClr val="000000"/>
                </a:solidFill>
                <a:latin typeface="Times New Roman"/>
              </a:rPr>
              <a:t>, che è obbligatorio nel caso della legge di bilancio, della legge finanziaria e delle leggi aventi riflessi di ordine finanziario. Nel caso di votazione accompagnata dalla fiducia si vota per appello nominale (che è una delle tipologie di voto palese, come quella per alzata di mano, ad 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voto </a:t>
            </a:r>
            <a:r>
              <a:rPr b="0" i="1" lang="en-US" sz="2400" spc="-1" strike="noStrike">
                <a:solidFill>
                  <a:srgbClr val="000000"/>
                </a:solidFill>
                <a:latin typeface="Times New Roman"/>
              </a:rPr>
              <a:t>segreto </a:t>
            </a:r>
            <a:r>
              <a:rPr b="0" lang="en-US" sz="2400" spc="-1" strike="noStrike">
                <a:solidFill>
                  <a:srgbClr val="000000"/>
                </a:solidFill>
                <a:latin typeface="Times New Roman"/>
              </a:rPr>
              <a:t>viene adottato nel caso di votazioni su perso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voto palese può trasformarsi in voto segreto su richiesta di 20 deputati, 20 senatori o tanti Presidenti di gruppo che raggiungono la stessa cifra per quanto riguarda leggi che concernono diritti di libertà, diritti della persona umana, diritti della famiglia, modifiche regolamenta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EAA0B-A37D-4AA9-BC7A-21E745B5F7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legislativa</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l’avvento della costituzione repubblicana il Parlamento ha perso il monopolio della funzione legislativa che deteneva in precedenza.</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è passati infatti ad un sistema policentrico nel quale il potere legislativo viene distribuito tra diversi livelli di governo, assistiti dalla garanzia del riconoscimento esplicito in Costituzione. </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ipi di legge sono svariati: leggi costituzionali, leggi ordinarie del Parlamento, leggi regionali. Ed anche nell’ambito delle leggi del parlamento, il termine viene adoperato in accezioni diverse: ad es. legge di delegazione, legge di autorizzazione alla ratifica dei trattati internazionali, legge di amnistia ed indul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AC61EA-DC1E-483F-9E1D-38D380620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legislativa</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esto non vuol dire, però, che la legge non resti un elemento fondamentale del nostro sistema normativo, come viceversa è testimoniato dalle numerose riserve di legge previste in Costituzione e dalla particolare accuratezza con la quale è disciplinato il relativo procedimento di approvazio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ò la legge incontra dei limiti, che sono:</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 </a:t>
            </a:r>
            <a:r>
              <a:rPr b="0" lang="it-IT" sz="2400" spc="-1" strike="noStrike" u="sng">
                <a:solidFill>
                  <a:srgbClr val="000000"/>
                </a:solidFill>
                <a:uFillTx/>
                <a:latin typeface="Times New Roman"/>
              </a:rPr>
              <a:t>di ordine procedimentale</a:t>
            </a:r>
            <a:r>
              <a:rPr b="0" lang="it-IT" sz="2400" spc="-1" strike="noStrike">
                <a:solidFill>
                  <a:srgbClr val="000000"/>
                </a:solidFill>
                <a:latin typeface="Times New Roman"/>
              </a:rPr>
              <a:t> rispetto alle modalità di esercizio del potere come previste in Costituzione;</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b) </a:t>
            </a:r>
            <a:r>
              <a:rPr b="0" lang="it-IT" sz="2400" spc="-1" strike="noStrike" u="sng">
                <a:solidFill>
                  <a:srgbClr val="000000"/>
                </a:solidFill>
                <a:uFillTx/>
                <a:latin typeface="Times New Roman"/>
              </a:rPr>
              <a:t>di ordine sostanziale</a:t>
            </a:r>
            <a:r>
              <a:rPr b="0" lang="it-IT" sz="2400" spc="-1" strike="noStrike">
                <a:solidFill>
                  <a:srgbClr val="000000"/>
                </a:solidFill>
                <a:latin typeface="Times New Roman"/>
              </a:rPr>
              <a:t> sia in quanto la legge non può derogare a quanto previsto in Costituzione, sia in quanto la legge deve disciplinare certe materie. A volte secondo un certo contenuto o procedimento (leggi c.d. rinforz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F7F9C5-46A0-43C8-AD85-53BE48B2218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olo e corpo elettora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corpo elettorale rappresenta la “parte attiva del popolo”, ossia quell’insieme di soggetti in possesso dei requisiti richiesti direttamente dalla Costituzione (o/e dalla legge) per l’esercizio delle funzioni che valgono a mettere in moto l’azione degli organi statali attraverso i quali si esprime la sovranità popola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tolare della sovranità resta, comunque, il popolo nel suo complesso. Di esso fanno parte anche coloro che non sono elettori (minorenni, che possono avere comunque una partecipazione attiva nei sindacati e nei partiti).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amente distinto dalla nozione di popolo e da quella di corpo elettorale è il concetto di </a:t>
            </a:r>
            <a:r>
              <a:rPr b="0" i="1" lang="en-US" sz="1800" spc="-1" strike="noStrike">
                <a:solidFill>
                  <a:srgbClr val="000000"/>
                </a:solidFill>
                <a:latin typeface="Times New Roman"/>
              </a:rPr>
              <a:t>nazione</a:t>
            </a:r>
            <a:r>
              <a:rPr b="0" lang="en-US" sz="1800" spc="-1" strike="noStrike">
                <a:solidFill>
                  <a:srgbClr val="000000"/>
                </a:solidFill>
                <a:latin typeface="Times New Roman"/>
              </a:rPr>
              <a:t>, con il quale si designa il complesso dei fattori etnici, sociali, linguistici, culturali che insieme costituiscono il patrimonio di una determinata collettività.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a:t>
            </a:r>
            <a:r>
              <a:rPr b="0" i="1" lang="en-US" sz="1800" spc="-1" strike="noStrike">
                <a:solidFill>
                  <a:srgbClr val="000000"/>
                </a:solidFill>
                <a:latin typeface="Times New Roman"/>
              </a:rPr>
              <a:t>popolazione, </a:t>
            </a:r>
            <a:r>
              <a:rPr b="0" lang="en-US" sz="1800" spc="-1" strike="noStrike">
                <a:solidFill>
                  <a:srgbClr val="000000"/>
                </a:solidFill>
                <a:latin typeface="Times New Roman"/>
              </a:rPr>
              <a:t>a sua volta, si designa l’insieme dei soggetti che risiedono in un determinato momento nel territorio dello Stat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D0C251D-AC66-4C9C-A7CC-9573F897F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ittadinanz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a:t>
            </a:r>
            <a:r>
              <a:rPr b="0" lang="it-IT" sz="1600" spc="-1" strike="noStrike" u="sng">
                <a:solidFill>
                  <a:srgbClr val="000000"/>
                </a:solidFill>
                <a:uFillTx/>
                <a:latin typeface="Times New Roman"/>
              </a:rPr>
              <a:t>cittadinanza</a:t>
            </a:r>
            <a:r>
              <a:rPr b="0" lang="it-IT" sz="1600" spc="-1" strike="noStrike">
                <a:solidFill>
                  <a:srgbClr val="000000"/>
                </a:solidFill>
                <a:latin typeface="Times New Roman"/>
              </a:rPr>
              <a:t> costituisce uno </a:t>
            </a:r>
            <a:r>
              <a:rPr b="0" i="1" lang="it-IT" sz="1600" spc="-1" strike="noStrike">
                <a:solidFill>
                  <a:srgbClr val="000000"/>
                </a:solidFill>
                <a:latin typeface="Times New Roman"/>
              </a:rPr>
              <a:t>status</a:t>
            </a:r>
            <a:r>
              <a:rPr b="0" lang="it-IT" sz="1600" spc="-1" strike="noStrike">
                <a:solidFill>
                  <a:srgbClr val="000000"/>
                </a:solidFill>
                <a:latin typeface="Times New Roman"/>
              </a:rPr>
              <a:t> cui la Costituzione riconnette una serie di diritti (diritto di voto, ad es.), ma anche di doveri (dovere di difendere la patria, dovere di concorrere alle spese pubbliche).</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cquisto o la perdita della cittadinanza sono disciplinate dalla L. 91/1992, come modificata ed integrata dal d. P. R. 12 ottobre 1993, n. 572 e dal d. P. R. 18 aprile 1994, n. 362.</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no previsti, in generale, due modi di acquisto della cittadinanza, che si riferiscono o ai fattori che si rifanno all’appartenenza primaria, oppure alla espressa richiesta dell’interessato.</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rimo caso: si acquista la cittadinanza italiana in quanto figli di padre o di madre cittadini italiani “</a:t>
            </a:r>
            <a:r>
              <a:rPr b="0" i="1" lang="it-IT" sz="1600" spc="-1" strike="noStrike">
                <a:solidFill>
                  <a:srgbClr val="000000"/>
                </a:solidFill>
                <a:latin typeface="Times New Roman"/>
              </a:rPr>
              <a:t>iure sanguinis</a:t>
            </a:r>
            <a:r>
              <a:rPr b="0" lang="it-IT" sz="1600" spc="-1" strike="noStrike">
                <a:solidFill>
                  <a:srgbClr val="000000"/>
                </a:solidFill>
                <a:latin typeface="Times New Roman"/>
              </a:rPr>
              <a:t>” ovvero in quanto nati in territorio italiano da genitori ignoti, ovvero da stranieri nell’impossibilità di ottenere la cittadinanza di costoro “</a:t>
            </a:r>
            <a:r>
              <a:rPr b="0" i="1" lang="it-IT" sz="1600" spc="-1" strike="noStrike">
                <a:solidFill>
                  <a:srgbClr val="000000"/>
                </a:solidFill>
                <a:latin typeface="Times New Roman"/>
              </a:rPr>
              <a:t>iure soli</a:t>
            </a:r>
            <a:r>
              <a:rPr b="0" lang="it-IT" sz="1600" spc="-1" strike="noStrike">
                <a:solidFill>
                  <a:srgbClr val="000000"/>
                </a:solidFill>
                <a:latin typeface="Times New Roman"/>
              </a:rPr>
              <a:t>” (soggetti esiliati dal loro paese e privati della loro cittadinanza).</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caso di richiesta espressa dell’interessato sono necessari, oltre all’istanza, anche altri requisiti (residenza da un certo numero di anni, possesso di un’occupazione stabile e regolare, etc).</a:t>
            </a: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cittadinanza si può anche perdere, ma ciò non può mai accadere sulla base di motivi politici, bensì per rinunzia (acquisto di cittadinanza straniera e residenza all’estero) oppure automaticamente (svolgimento di funzioni alle dipendenze di uno Stato estero, non ostante l’intimazione a cessarne).</a:t>
            </a:r>
            <a:r>
              <a:rPr b="0" lang="it-IT" sz="1600" spc="-1" strike="noStrike">
                <a:solidFill>
                  <a:srgbClr val="000000"/>
                </a:solidFill>
                <a:latin typeface="Times New Roman"/>
                <a:ea typeface="Arial Unicode MS"/>
              </a:rPr>
              <a:t>    Cittadinanza Europea e relativi diritti.</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4191120" y="655308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E7409-6E55-4732-A468-2C705DE38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elettoral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n sistema rappresentativo, come il nostro, le funzioni del corpo elettorale si riassumono prevalentemente nella funzione elettorale, nelle diverse forme in cui è prevista: elezione dei rappresentanti nel Parlamento nazionale, nel Parlamento europeo, nei Consigli regionali. Un correttivo, ma non realmente alternativo, di esercizio della sovranità è rappresentato dai modi di esercizio diretto della sovranità: referendum, petizione, iniziativa legislativa popolar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a funzione elettorale</a:t>
            </a:r>
            <a:r>
              <a:rPr b="0" lang="en-US" sz="2000" spc="-1" strike="noStrike">
                <a:solidFill>
                  <a:srgbClr val="000000"/>
                </a:solidFill>
                <a:latin typeface="Times New Roman"/>
              </a:rPr>
              <a:t> L’art. 48 della Costituzione a) determina quali devono essere le caratteristiche del voto (personalità, uguaglianza, libertà e segretezza); b) lo definisce come un dovere civico; c) indica i requisiti positivi (cittadinanza e maggiore età) e quelli negativi (incapacità ed indegnità morale) della c.d. capacità elettorale.L’art. 48, viceversa, non si occupa delle regole che disciplinano le modalità attraverso le quali i voti espressi dagli elettori vengono utilizzati per assegnare i seggi posti in palio (in sostanza dei sistemi elettoral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B37D0A-AC62-4F9E-A41B-3D8295F35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elettoral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rPr>
              <a:t>Le caratteristiche del voto</a:t>
            </a:r>
            <a:r>
              <a:rPr b="0" lang="it-IT" sz="1600" spc="-1" strike="noStrike">
                <a:solidFill>
                  <a:srgbClr val="000000"/>
                </a:solidFill>
                <a:latin typeface="Times New Roman"/>
              </a:rPr>
              <a:t>: 1) la </a:t>
            </a:r>
            <a:r>
              <a:rPr b="0" i="1" lang="it-IT" sz="1600" spc="-1" strike="noStrike">
                <a:solidFill>
                  <a:srgbClr val="000000"/>
                </a:solidFill>
                <a:latin typeface="Times New Roman"/>
              </a:rPr>
              <a:t>personalità</a:t>
            </a:r>
            <a:r>
              <a:rPr b="0" lang="it-IT" sz="1600" spc="-1" strike="noStrike">
                <a:solidFill>
                  <a:srgbClr val="000000"/>
                </a:solidFill>
                <a:latin typeface="Times New Roman"/>
              </a:rPr>
              <a:t> vuol dire divieto per il legislatore elettorale di introdurre regole che consentano all’elettore di esercitare la funzione elettorale mediante un altro soggetto (per delega – Boumelkà).</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2) </a:t>
            </a:r>
            <a:r>
              <a:rPr b="0" lang="it-IT" sz="1600" spc="-1" strike="noStrike" u="sng">
                <a:solidFill>
                  <a:srgbClr val="000000"/>
                </a:solidFill>
                <a:uFillTx/>
                <a:latin typeface="Times New Roman"/>
              </a:rPr>
              <a:t>uguaglianza</a:t>
            </a:r>
            <a:r>
              <a:rPr b="0" lang="it-IT" sz="1600" spc="-1" strike="noStrike">
                <a:solidFill>
                  <a:srgbClr val="000000"/>
                </a:solidFill>
                <a:latin typeface="Times New Roman"/>
              </a:rPr>
              <a:t> vuol dire divieto di introdurre regole elettorali che abbiano come conseguenza l’attribuzione al voto di alcuni soggetti di un “peso” elettorale maggiore di quello riconosciuto ad altri (i voti si contano e non si pesano). In Russia, fino alla Costituzione del 1936 per gli operai era riconosciuto un voto “plurimo” ed in Inghilterra, fino al 1948, era riconosciuta ai titolari di cariche accademiche o di determinati pubblici uffici la possibilità di votare due vol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3 e 4) </a:t>
            </a:r>
            <a:r>
              <a:rPr b="0" lang="it-IT" sz="1600" spc="-1" strike="noStrike" u="sng">
                <a:solidFill>
                  <a:srgbClr val="000000"/>
                </a:solidFill>
                <a:uFillTx/>
                <a:latin typeface="Times New Roman"/>
              </a:rPr>
              <a:t>libertà e segretezza</a:t>
            </a:r>
            <a:r>
              <a:rPr b="0" lang="it-IT" sz="1600" spc="-1" strike="noStrike">
                <a:solidFill>
                  <a:srgbClr val="000000"/>
                </a:solidFill>
                <a:latin typeface="Times New Roman"/>
              </a:rPr>
              <a:t> vanno intese come obbligo per il legislatore elettorale di predisporre modalità di esercizio del diritto di voto che garantiscano, nella maniera più piena, oltre alla non riconoscibilità del voto espresso, la possibilità di esprimere, senza condizionamenti di sorta, la propria volontà elettorale. Il che vuol dire: -pubblicità circa i candidati ed i partiti partecipanti alla competizione elettorale; - apprestamento di luoghi idonei in cui l’elettore può isolarsi per esprimere il proprio voto; - servizio di ordine pubbl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5DB2B9-4A26-466F-99C2-EE806A5C92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elettoral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l voto come dovere civico</a:t>
            </a:r>
            <a:r>
              <a:rPr b="0" lang="en-US" sz="2000" spc="-1" strike="noStrike">
                <a:solidFill>
                  <a:srgbClr val="000000"/>
                </a:solidFill>
                <a:latin typeface="Times New Roman"/>
              </a:rPr>
              <a:t> Questa formula rappresenta il compromesso tra due tesi che si erano confrontate in Assemblea Costituent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quella che intendeva valorizzare al massimo la funzione elettorale e quindi privilegiava il voto come giuridicamente obbligatorio;</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quella che concepiva il voto come esercizio di un diritto di libertà o, al massimo, lo considerava un obbligo moral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nseguenza del prevalere della prima delle due concezioni venivano previste delle sanzioni amministrative per chi, ingiustificatamente, non esercitava il diritto di vot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e sanzioni sono state eliminate dalla nuova legge elettorale per la camera dei Deputati (L. n. 277/1993), che ha sostituito pure la precedente espressione contenuta nel T.U. delle elezioni per la Camera dei Deputati da obbligo in dirit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FCAB97-7736-4B72-BC5D-C8673BCD01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zione elettora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rPr>
              <a:t>La capacità elettorale</a:t>
            </a:r>
            <a:r>
              <a:rPr b="0" lang="it-IT" sz="1600" spc="-1" strike="noStrike">
                <a:solidFill>
                  <a:srgbClr val="000000"/>
                </a:solidFill>
                <a:latin typeface="Times New Roman"/>
              </a:rPr>
              <a:t> Per capacità elettorale possiamo intendere i requisiti necessari per l’acquisto del diritto di elettorato sia attivo che passivo.</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ali requisiti sono di un duplice ordine:</a:t>
            </a:r>
            <a:endParaRPr b="0" lang="en-US" sz="1600" spc="-1" strike="noStrike">
              <a:solidFill>
                <a:srgbClr val="000000"/>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1" lang="it-IT" sz="1600" spc="-1" strike="noStrike">
                <a:solidFill>
                  <a:srgbClr val="000000"/>
                </a:solidFill>
                <a:latin typeface="Times New Roman"/>
              </a:rPr>
              <a:t>Positivi </a:t>
            </a:r>
            <a:r>
              <a:rPr b="1"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la cittadinanza (in realtà, con l’approvazione dell’art. 48 scompare per sempre la possibilità di introdurre altri e nuovi requisiti, che vi erano in passato ed erano legati al censo, all’alfabetizzazione, al sesso).</a:t>
            </a:r>
            <a:endParaRPr b="0" lang="en-US" sz="1600" spc="-1" strike="noStrike">
              <a:solidFill>
                <a:srgbClr val="000000"/>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Il requisito della cittadinanza presenta qualche difficoltà in ordine alla situazione dei cittadini residenti all’estero, particolarmente per un paese come il nostro che –almeno in passato- ha avuto alti tassi di emigrazione. In forza della modifica costituzionale introdotta con L. cost. n. 1/2000, è stata creata una apposita “circoscrizione estera” nella quale si eleggono 12 deputati e sei senatori.</a:t>
            </a:r>
            <a:endParaRPr b="0" lang="en-US" sz="1600" spc="-1" strike="noStrike">
              <a:solidFill>
                <a:srgbClr val="000000"/>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Restano i problemi relativi alla esatta definizione della categoria degli italiani residenti all’estero, in relazione al fatto che il riconoscimento della cittadinanza è ancora fortemente ancorato al criterio tradizionale dello </a:t>
            </a:r>
            <a:r>
              <a:rPr b="0" i="1" lang="it-IT" sz="1600" spc="-1" strike="noStrike">
                <a:solidFill>
                  <a:srgbClr val="000000"/>
                </a:solidFill>
                <a:latin typeface="Times New Roman"/>
                <a:ea typeface="Arial Unicode MS"/>
              </a:rPr>
              <a:t>ius sanguinis </a:t>
            </a:r>
            <a:r>
              <a:rPr b="0" lang="it-IT" sz="1600" spc="-1" strike="noStrike">
                <a:solidFill>
                  <a:srgbClr val="000000"/>
                </a:solidFill>
                <a:latin typeface="Times New Roman"/>
                <a:ea typeface="Arial Unicode MS"/>
              </a:rPr>
              <a:t>che esclude l’obbligo di opzione per i cittadini italiani che acquistano una cittadinanza straniera, nonché per la definizione in termini quantitativi di questa categoria. Si verificano situazioni paradossali per quanti, avendo perso ogni contatto con il tessuto sociale, politico e culturale, restano titolari del diritto di voto senza che a ciò si accompagni la richiesta di alcun dovere pubblico. Complesse risultano anche le modalità relative all’esercizio del diritto di voto (speciali seggi elettorali, voto per corrispondenza, segretezza).</a:t>
            </a:r>
            <a:endParaRPr b="0" lang="en-US" sz="1600" spc="-1" strike="noStrike">
              <a:solidFill>
                <a:srgbClr val="000000"/>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p:txBody>
      </p:sp>
      <p:sp>
        <p:nvSpPr>
          <p:cNvPr id="60" name=""/>
          <p:cNvSpPr/>
          <p:nvPr/>
        </p:nvSpPr>
        <p:spPr>
          <a:xfrm>
            <a:off x="1828800" y="2819520"/>
            <a:ext cx="152280" cy="75960"/>
          </a:xfrm>
          <a:prstGeom prst="right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B48317-A1BC-42E6-A088-85AD02E03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9:31:33Z</dcterms:created>
  <dc:creator>Giovanni Cocco</dc:creator>
  <dc:description/>
  <dc:language>en-US</dc:language>
  <cp:lastModifiedBy>asegreteria</cp:lastModifiedBy>
  <dcterms:modified xsi:type="dcterms:W3CDTF">2005-05-24T13:49:35Z</dcterms:modified>
  <cp:revision>26</cp:revision>
  <dc:subject/>
  <dc:title>Istituzioni di diritto pubblico III</dc:title>
</cp:coreProperties>
</file>