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D9849-5A34-4F0E-AB61-3E0DCCCD5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42827-1D8F-4F76-8CB5-AB9D6BBA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ED288-DD7F-4B3A-AB71-C46286388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566E6-0338-4BD5-8BB5-D40DD4BE9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156F-F92C-413E-934B-AB6B12A99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C959-E510-4D67-9000-165BB010E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2A1C3-5547-4CAD-A50E-AB0FA18C7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D0DC-FC33-4E07-BF63-9E1E6CDE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A9A00-2B26-4777-B46F-23AECF4E7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EC77-AD1A-49FC-8045-5341C0221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025E-9ED6-42DE-8E6F-3C9596E03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2BBC-5A9B-4400-B332-48E3A4C51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031E-75B5-4713-8D8D-D74FAF699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tituzioni di diritto pubblico V</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00CEC5-9B7C-42FF-8944-9B9EC8240F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il giudizio in via incidental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giudizio </a:t>
            </a:r>
            <a:r>
              <a:rPr b="0" lang="en-US" sz="2800" spc="-1" strike="noStrike" u="sng">
                <a:solidFill>
                  <a:srgbClr val="000000"/>
                </a:solidFill>
                <a:uFillTx/>
                <a:latin typeface="Times New Roman"/>
              </a:rPr>
              <a:t>in via incidenta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t. 23 della L. 11 marzo 1953, n. 87, ne precisa i termini, stabilendo che: nel corso di un giudizio, una delle parti o il P.M. possono sollevare questione di legittimità costituzionale mediante apposita istanza, indicando:</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e disposizioni della legge dello Stato o di una Regione, viziate da illegittimità costituzional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e disposizioni della Costituzione o delle leggi costituzionali che si assumono violat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C1656C-E427-4F2D-9C40-4FA10CFBB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il giudizio in via incidental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utorità giurisdizionale, a) qualora il giudizio non possa essere definito indipendentemente dalla questione sollevata  b) né ritenga la questione manifestamente infondata, emette un’ordinanza, con la quale, riferiti i termini ed i motivi dell’istanza, dispone l’immediata trasmissione degli atti alla Corte Costituzionale e sospende il giudizio in cor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 le stesse indicazioni specificate sub a) e sub b) la questione può essere sollevata d’ufficio dal giudice dinanzi al quale pende la controversi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602BDD-4B23-45E8-8CE3-4B98E7208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il giudizio in via incidenta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 immediata evidenza è il carattere concreto del sindacato incidentale, a differenza dei vari giudizi in via principale, che hanno carattere astrat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ssa è la definizione di cosa debba intendersi per “autorità giurisdizionale” e “giudizio”, che la Corte Costituzionale si è orientata ad ampliare per motivi garantistic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63591B-D805-42D2-A60E-7501E149E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il giudizio in via incidental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ordinanza di rimessione degli atti alla Corte deve essere notificata alle parti in causa ed al Presidente del Consiglio e comunicata ai Presidenti di Assemblea ed al Presidente del Consiglio Regionale. Dopo di che viene trasmessa alla Cancelleria della Corte. Il Presidente della Corte ne dispone la pubblicazione in G.U. e nel B. U. R. Da quel momento decorre il termine di 20 giorni per la costituzione in giudizio dinanzi alla Cort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questo giudizio possono accedere le parti, il Presidente del Consiglio ed il Presidente della Regione eventualmente interessata, ma non il giudice dinanzi al quale è stata sollevata la questione.</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FBDF8F-EF05-4728-8820-84D423642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il giudizio innanzi alla Cort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giudizio di merito della Corte può essere preceduto da un’eventuale attività istruttoria e si conclude con una sentenza, che può essere di accoglimento o di rigetto della questione proposta.</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entre le pronunce di accoglimento sono irretrattabili, nel senso che la legge viene cancellata dal nostro ordinamento, nel caso di pronunce di rigetto la questione può essere sempre riproposta, vuoi facendo appello a nuovi motivi, vuoi riproponendo quelli già esaminati , sul presupposto che la Corte può cambiare parere, come è accaduto peraltro.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BDE5D0-29B4-49CC-8235-A90AB4182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le funzion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l’ipotesi di accoglimento, la legge cessa di avere efficacia dal giorno successivo alla pubblicazione della decisione. Il che vuol dire che nessun giudice può applicarla da tale giorno neppure ai rapporti che nascono da fatti passati, che vanno giudicati alla luce della sentenza della Corte. In sostanza le pronunce di illegittimità retroagiscono ed hanno quindi effetti diversi rispetto a quanto accade nella ipotesi di una legge abrogatrice, che, di regola, esplica effetti </a:t>
            </a:r>
            <a:r>
              <a:rPr b="0" i="1" lang="it-IT" sz="2400" spc="-1" strike="noStrike">
                <a:solidFill>
                  <a:srgbClr val="000000"/>
                </a:solidFill>
                <a:latin typeface="Times New Roman"/>
              </a:rPr>
              <a:t>ex nunc</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etroattività trova un limite nei c.d. rapporti esauriti, vale a dire quelli definiti con giudicati o transazioni, ovvero quelli per i quali è intervenuta una situazione di decadenza o prescrizi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4FE1EE-1F65-44AE-9BAC-BD27CEF3B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tipi di sentenz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tipologia delle sentenze della Corte è ben più ampia di quella sinteticamente accennata. Vale solo aggiungere che possono esservi sentenze “interpreta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i accoglimento, che accolgono e precisano quale delle diverse interpretazioni che possono essere date alla norma è quella che viene prescelta, sicché le altre e diverse restano sal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i rigetto, che respingono l’eccezione sulla base di una determinata interpretazione della nor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222E4B-591D-4CF8-89C3-E697DE52B2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 </a:t>
            </a:r>
            <a:br>
              <a:rPr sz="4400"/>
            </a:br>
            <a:r>
              <a:rPr b="0" lang="en-US" sz="4400" spc="-1" strike="noStrike">
                <a:solidFill>
                  <a:srgbClr val="000000"/>
                </a:solidFill>
                <a:latin typeface="Times New Roman"/>
              </a:rPr>
              <a:t> (effetti delle sentenz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entenze di accoglimento determinano una lacuna nell’ordinamento, che può essere colmata o per effetto dell’intervento del legislatore o sulla base dell’interpretazione della giurisprudenza, ma non sul presupposto della reviviscenza di un eventuale norma preesistente a quella incostituzionale e da quest’ultima abrogata.</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ampo penale, l’art. 30 della L. n.87/1953 stabilisce che se è stata pronunciata una sentenza irrevocabile di condanna sulla base di una norma poi dichiarata incostituzionale, ne cessa l’esecuzione a tutti gli effetti penal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C60F2-B9F6-48D9-A98C-390DADE1C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i conflitti di attribuzion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olvendo i contrasti che insorgono nella definizione delle rispettive sfere di competenza tra soggetti ed organi cui la Costituzione riconosce un’autonoma sfera di attribuzioni, la corte garantisce l’osservanza delle norme di organizzazion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eri comuni sia ai conflitti interorganici (cioè tra organi dello Stato) che ai conflitti intersoggettivi (ossia tra Stato e Regioni o tra Regioni tra lor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il conflitto può nascere solo con riferimento alla titolarità o all’esercizio di competenze definite da norme di livello costituzionale o integrative della Costituzione (ad es. norme relative al trasferimento delle funzioni amministrative dallo Stato alle Region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A45C5F-EF3D-4BCD-BC14-5DE49CC93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i conflitti di attribuzion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l conflitto insorge non solo nell’ipotesi di invasione di competenza, ma anche nel caso di semplice lesione, ossia quando l’esercizio illegittimo (il cattivo uso) di un potere proprio ostacoli o comporti una menomazione all’esercizio di attribuzioni costituzionalmente riservate ad altro soggetto;</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la Corte è chiamata a risolvere il conflitto solo su ricorso. Quindi possono essere parti del giudizio solo i soggetti legittimati e non i terzi; inoltre la Corte non può procedere d’ufficio e deve prendere atto delle eventuali rinunce al ricorso;</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le controversie possono dar luogo a decisioni di annullamento degli atti all’origine del conflit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5B9700-656D-47B9-8BE2-79446885D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 (organizzazion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te costituzionale è composta da 15 giudic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dei giudici ha luogo nell’ambito di tre categor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magistrati delle giurisdizioni superiori;</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professori ordinari in materie giuridich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avvocati con almeno 20 anni di esercizio professiona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BDEB3E-F035-430D-93D7-941972723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i conflitti di attribuzion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quanto riguarda il conflitto tra poteri dello Stato, non è possibile limitare l’ambito del giudizio solo ai tre poteri tradizionali, intesi come complessi di organi concorrenti all’esercizio di una medesima funzion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sistema esistono anche poteri che si risolvono in un solo organo e non riconducibili alla tradizionale tripartizione, ossia i c.d. poteri-organo ( ad es. il P.d.R.), così come vi sono poteri diffusi (i singoli organi giudiziari) ed organi che, seppur inseriti in più vasti complessi organizzatori, si configurano come altrettanti poteri a sé stanti ( ciascuna delle due Came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856888-D694-4EC9-9771-A4687F9F50F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 (organizzazion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giudici della Corte vengono scelti nel seguente modo:</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5 vengono eletti dal Parlamento in seduta comun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5 vengono nominati dal Capo dello Stato;</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5 vengono scelti dai componenti delle supreme magistrature (ordinaria ed amministrativ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I giudici della Corte sono nominati per nove anni e non possono essere rinominati. Non si applica, nel loro caso, l’istituto della </a:t>
            </a:r>
            <a:r>
              <a:rPr b="0" i="1" lang="it-IT" sz="2800" spc="-1" strike="noStrike">
                <a:solidFill>
                  <a:srgbClr val="000000"/>
                </a:solidFill>
                <a:latin typeface="Times New Roman"/>
              </a:rPr>
              <a:t>prorogatio</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6D663-7172-462D-BB47-FAE00DDAFB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 (organizzazion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odono di ampie garanzie simili a quelle dei parlamentari (ad es. improcedibilità dell’azione penale senza autorizzazione della  Cort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n possono essere sospesi o rimossi se non per decisione della Corte stessa adottata a maggioranza dei 2/3.</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Quando giudica in sede di giustizia politica (accuse nei confronti del Capo dello Stato) la composizione è integrata da 16 giudici c.d. aggregati, tratti a sorte da un elenco che il Parlamento compila ogni 9 an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4206E4-8408-490F-AEF4-9F7581F8C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le funzion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difesa delle regole basilari dei sistemi politici è un problema antico e trattato in sede teorica con grande varietà prospett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si ritiene generalmente sufficiente il solo principio di rigidità della Costituzione . Ad esso si aggiunge un meccanismo di controllo di tale rigidità affidato ad organi indipenden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D3597A-B578-459A-BF40-BFF041817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le funzion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sistemi di controllo sono, sostanzialmente, du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il controllo di costituzionalità </a:t>
            </a:r>
            <a:r>
              <a:rPr b="1" lang="it-IT" sz="2800" spc="-1" strike="noStrike" u="sng">
                <a:solidFill>
                  <a:srgbClr val="000000"/>
                </a:solidFill>
                <a:uFillTx/>
                <a:latin typeface="Times New Roman"/>
              </a:rPr>
              <a:t>diffuso</a:t>
            </a:r>
            <a:r>
              <a:rPr b="0" lang="it-IT" sz="2800" spc="-1" strike="noStrike">
                <a:solidFill>
                  <a:srgbClr val="000000"/>
                </a:solidFill>
                <a:latin typeface="Times New Roman"/>
              </a:rPr>
              <a:t>, nel qual caso ogni giudice può disapplicare la norma contrastante con la Costituzion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In questo sistema si evita il rischio di una pluralità di pronunce contrastanti tramite il ricorso al principio dello “</a:t>
            </a:r>
            <a:r>
              <a:rPr b="0" i="1" lang="it-IT" sz="2800" spc="-1" strike="noStrike">
                <a:solidFill>
                  <a:srgbClr val="000000"/>
                </a:solidFill>
                <a:latin typeface="Times New Roman"/>
              </a:rPr>
              <a:t>stare decisis</a:t>
            </a: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il controllo di costituzionalità </a:t>
            </a:r>
            <a:r>
              <a:rPr b="1" lang="it-IT" sz="2800" spc="-1" strike="noStrike" u="sng">
                <a:solidFill>
                  <a:srgbClr val="000000"/>
                </a:solidFill>
                <a:uFillTx/>
                <a:latin typeface="Times New Roman"/>
              </a:rPr>
              <a:t>accentrato, </a:t>
            </a:r>
            <a:r>
              <a:rPr b="0" lang="it-IT" sz="2800" spc="-1" strike="noStrike">
                <a:solidFill>
                  <a:srgbClr val="000000"/>
                </a:solidFill>
                <a:latin typeface="Times New Roman"/>
              </a:rPr>
              <a:t>ossia affidato ad un organo </a:t>
            </a:r>
            <a:r>
              <a:rPr b="0" i="1" lang="it-IT" sz="2800" spc="-1" strike="noStrike">
                <a:solidFill>
                  <a:srgbClr val="000000"/>
                </a:solidFill>
                <a:latin typeface="Times New Roman"/>
              </a:rPr>
              <a:t>ad hoc</a:t>
            </a:r>
            <a:r>
              <a:rPr b="0" lang="it-IT" sz="2800" spc="-1" strike="noStrike">
                <a:solidFill>
                  <a:srgbClr val="000000"/>
                </a:solidFill>
                <a:latin typeface="Times New Roman"/>
              </a:rPr>
              <a:t>. In questo caso il controllo può ulteriormente diversificarsi: in via </a:t>
            </a:r>
            <a:r>
              <a:rPr b="0" i="1" lang="it-IT" sz="2800" spc="-1" strike="noStrike">
                <a:solidFill>
                  <a:srgbClr val="000000"/>
                </a:solidFill>
                <a:latin typeface="Times New Roman"/>
              </a:rPr>
              <a:t>primaria</a:t>
            </a:r>
            <a:r>
              <a:rPr b="0" lang="it-IT" sz="2800" spc="-1" strike="noStrike">
                <a:solidFill>
                  <a:srgbClr val="000000"/>
                </a:solidFill>
                <a:latin typeface="Times New Roman"/>
              </a:rPr>
              <a:t> ovvero in via </a:t>
            </a:r>
            <a:r>
              <a:rPr b="0" i="1" lang="it-IT" sz="2800" spc="-1" strike="noStrike">
                <a:solidFill>
                  <a:srgbClr val="000000"/>
                </a:solidFill>
                <a:latin typeface="Times New Roman"/>
              </a:rPr>
              <a:t>incidentale</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7B32B7-8CFA-4397-BCDB-77F053A02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le funzion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altà il nostro organo di giustizia costituzionale ha il compito di controllare la conformità a Costituzione:</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del comportamento degli organi della funzione legislativa;</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degli organi o enti titolari di una sfera costituzionalmente garantita quando giungono a conflitto tra di loro;</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del comportamento del Presidente della Repubblica, quando è posto in stato d’accusa dal Parlamento in seduta comune;</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e funzioni sono previste dall’art. 134 della Costituzione. Ad esse si aggiunge la funzione prevista dall’art. 2 della L. cost. n. 1/1953 sull’ammissibilità delle richieste di </a:t>
            </a:r>
            <a:r>
              <a:rPr b="0" i="1" lang="en-US" sz="2400" spc="-1" strike="noStrike">
                <a:solidFill>
                  <a:srgbClr val="000000"/>
                </a:solidFill>
                <a:latin typeface="Times New Roman"/>
              </a:rPr>
              <a:t>referendu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5BF458-B237-4323-A392-D93147642C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le funzioni)</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giudizi sulle leggi e sugli atti aventi forza di legge (per brevità, sulle leggi).</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giudizio dinanzi alla Corte può essere attivato in due mod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in via principale</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 via incidentale.</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rimo caso ( </a:t>
            </a:r>
            <a:r>
              <a:rPr b="0" lang="en-US" sz="2400" spc="-1" strike="noStrike" u="sng">
                <a:solidFill>
                  <a:srgbClr val="000000"/>
                </a:solidFill>
                <a:uFillTx/>
                <a:latin typeface="Times New Roman"/>
              </a:rPr>
              <a:t>in via principale</a:t>
            </a:r>
            <a:r>
              <a:rPr b="0" lang="en-US" sz="2400" spc="-1" strike="noStrike">
                <a:solidFill>
                  <a:srgbClr val="000000"/>
                </a:solidFill>
                <a:latin typeface="Times New Roman"/>
              </a:rPr>
              <a:t>) si verifica in tre diverse ipotesi: 1) se una regione ritiene che una legge dello Stato invada la sfera di competenza ad essa assegnata dalla Costituzione; 2) se una legge regionale straripa dalla propria competenza a danno di altre regioni; 3) se lo Stato impugna una legge regionale perché quest’ultima ha debordato dalla sfera di competenza costituzionalmente assegn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26C886-C037-4AEC-B3FD-E9F39FCAFF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rte Costituzionale</a:t>
            </a:r>
            <a:br>
              <a:rPr sz="4400"/>
            </a:br>
            <a:r>
              <a:rPr b="0" lang="en-US" sz="4400" spc="-1" strike="noStrike">
                <a:solidFill>
                  <a:srgbClr val="000000"/>
                </a:solidFill>
                <a:latin typeface="Times New Roman"/>
              </a:rPr>
              <a:t> (il giudizio in via principal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t. 127 della Costituzione precisa che il Governo, quando ritenga che una legge regionale ecceda la competenza della Regione, può promuovere la questione di legittimità costituzionale dinanzi alla Corte Costituzionale entro 60 giorni dalla sua pubblic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 stesso modo, e con lo stesso termine, può regolarsi la Regione, quando ritenga che una legge dello Stato o di un’altra Regione venga a ledere la sua sfera di competenz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2CB94C-FB20-42CB-A8C2-0AADBE838A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09:00:06Z</dcterms:created>
  <dc:creator>Giovanni Cocco</dc:creator>
  <dc:description/>
  <dc:language>en-US</dc:language>
  <cp:lastModifiedBy>asegreteria</cp:lastModifiedBy>
  <dcterms:modified xsi:type="dcterms:W3CDTF">2005-05-25T12:31:51Z</dcterms:modified>
  <cp:revision>19</cp:revision>
  <dc:subject/>
  <dc:title>Istituzioni di diritto pubblico V</dc:title>
</cp:coreProperties>
</file>