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A31606-C40B-4516-B5A3-396F9F6A57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253F62-8CEC-49AB-8DCD-A894023DCD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6965F1-E700-46C1-999E-10963F80F9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8EDDCE-5DDF-421B-B9CC-5CF411B354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30580E-8AED-4E6A-8B46-FD1735DD8C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B8CE23-985E-483F-9969-B9A3253F54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298692-7887-4E09-BA50-32936D72BA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0ED468-A3BF-4903-9FCB-CEF87C5B12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51FD77-4E62-425F-B8BB-7F473C220E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9D6D19-039B-44F0-ABFB-88DBF09599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415A62-5548-4B50-BF62-F042F49695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C3018E-4614-4205-BFB0-07973A5F46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99978-D215-4337-9D16-1AC14D72F79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V Istituzioni di diritto pubblico</a:t>
            </a:r>
            <a:br>
              <a:rPr sz="4400"/>
            </a:br>
            <a:r>
              <a:rPr b="0" lang="en-US" sz="3600" spc="-1" strike="noStrike">
                <a:solidFill>
                  <a:srgbClr val="000000"/>
                </a:solidFill>
                <a:latin typeface="Times New Roman"/>
              </a:rPr>
              <a:t>Gli organi costituzionali e le loro funzioni</a:t>
            </a:r>
            <a:endParaRPr b="0" lang="en-US" sz="36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rPr>
              <a:t>La funzione legislativa</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rPr>
              <a:t>Il procedimento legislativo </a:t>
            </a:r>
            <a:r>
              <a:rPr b="0" lang="it-IT" sz="1600" spc="-1" strike="noStrike">
                <a:solidFill>
                  <a:srgbClr val="000000"/>
                </a:solidFill>
                <a:latin typeface="Times New Roman"/>
              </a:rPr>
              <a:t>(artt. dal 71 al 74 della Cost). Il procedimento legislativo non si identifica con la funzione legislativa, che l’art. 70 attribuisce esclusivamente alle Camere, laddove il primo vede la partecipazione anche di altri soggetti.</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Il procedimento può essere identificato con una serie di atti distinti, ma coordinati, imputabili anche a soggetti differenziati, per il raggiungimento di un unico fine: che è l’emanazione di un atto finale.</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Questa nozione è importante vuoi perché consente di controllare il farsi della funzione in atto vuoi perché consente la partecipazione dei soggetti interessati.</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B9F49573-58E4-49F5-87ED-A1490D939FE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all’istruttoria alla fase costitutiva </a:t>
            </a:r>
            <a:endParaRPr b="0" lang="en-US" sz="44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i possono essere pareri:</a:t>
            </a:r>
            <a:endParaRPr b="0" lang="en-US" sz="2400" spc="-1" strike="noStrike">
              <a:solidFill>
                <a:srgbClr val="000000"/>
              </a:solidFill>
              <a:latin typeface="Times New Roman"/>
            </a:endParaRPr>
          </a:p>
          <a:p>
            <a:pPr marL="609480" indent="-60948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Vincolanti </a:t>
            </a:r>
            <a:r>
              <a:rPr b="0" lang="en-US" sz="2400" spc="-1" strike="noStrike">
                <a:solidFill>
                  <a:srgbClr val="000000"/>
                </a:solidFill>
                <a:latin typeface="Times New Roman"/>
              </a:rPr>
              <a:t>rispetto ai tre specifici profili: della copertura finanziaria; della legittimità costituzionale (presupposti di necessità ed urgenza dei d.l.); concernenti il pubblico impiego. Conseguenze del parere negativo;</a:t>
            </a:r>
            <a:endParaRPr b="0" lang="en-US" sz="2400" spc="-1" strike="noStrike">
              <a:solidFill>
                <a:srgbClr val="000000"/>
              </a:solidFill>
              <a:latin typeface="Times New Roman"/>
            </a:endParaRPr>
          </a:p>
          <a:p>
            <a:pPr marL="609480" indent="-60948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inforzati </a:t>
            </a:r>
            <a:r>
              <a:rPr b="0" lang="en-US" sz="2400" spc="-1" strike="noStrike">
                <a:solidFill>
                  <a:srgbClr val="000000"/>
                </a:solidFill>
                <a:latin typeface="Times New Roman"/>
              </a:rPr>
              <a:t>il Presidente può stabilire che i pareri  richiesti a Commissioni diverse abbiano gli stessi effetti, quando i progetti investono in maniera rilevante la competenza delle Commissioni consultate;</a:t>
            </a:r>
            <a:endParaRPr b="0" lang="en-US" sz="2400" spc="-1" strike="noStrike">
              <a:solidFill>
                <a:srgbClr val="000000"/>
              </a:solidFill>
              <a:latin typeface="Times New Roman"/>
            </a:endParaRPr>
          </a:p>
          <a:p>
            <a:pPr marL="609480" indent="-60948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Obbligatori</a:t>
            </a:r>
            <a:r>
              <a:rPr b="0" lang="en-US" sz="2400" spc="-1" strike="noStrike">
                <a:solidFill>
                  <a:srgbClr val="000000"/>
                </a:solidFill>
                <a:latin typeface="Times New Roman"/>
              </a:rPr>
              <a:t>  che valgono a garantire sempre l’apporto di specifiche competenze di Commissioni specializzate.</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ECA2692-B7DB-420D-A44D-F5C46B6BFA2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ase integrativa dell’efficacia</a:t>
            </a:r>
            <a:endParaRPr b="0" lang="en-US" sz="44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questa fase la legge, una volta che sia stato individuato da entrambe le Camere il contenuto normativo, è oggetto di attività e di interventi di diversa natura tutti volti ad imprimerle l’efficacia giuridica che le è propria.</a:t>
            </a:r>
            <a:endParaRPr b="0" lang="en-US" sz="2400" spc="-1" strike="noStrike">
              <a:solidFill>
                <a:srgbClr val="000000"/>
              </a:solidFill>
              <a:latin typeface="Times New Roman"/>
            </a:endParaRPr>
          </a:p>
          <a:p>
            <a:pPr marL="301680" indent="-3016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el profilo pluralistico del quale si sente il segno nella prima fase, scompare nella seconda (tutta ad appannaggio delle Camere) e nella terza affidata ad un organo estraneo, il Presidente della Repubblica.</a:t>
            </a:r>
            <a:endParaRPr b="0" lang="en-US" sz="2400" spc="-1" strike="noStrike">
              <a:solidFill>
                <a:srgbClr val="000000"/>
              </a:solidFill>
              <a:latin typeface="Times New Roman"/>
            </a:endParaRPr>
          </a:p>
          <a:p>
            <a:pPr marL="301680" indent="-3016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 promulgazione costituisce un atto tipicamente presidenziale, che conferisce alla legge la qualità di atto che, proprio in virtù dell’intervento del Capo dello Stato, si depura delle asprezze del processo politico, assurgendo ad obiettiva espressione di composizione degli interessi, come tale capace di essere osservato ed applicato.</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B6F2B03-A22D-4952-87D0-33206C047A8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ase integrativa dell’efficacia</a:t>
            </a:r>
            <a:endParaRPr b="0" lang="en-US" sz="4400" spc="-1" strike="noStrike">
              <a:solidFill>
                <a:srgbClr val="0000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5000"/>
          </a:bodyPr>
          <a:p>
            <a:pPr marL="291600" indent="-2916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Secondo quanto prescrive l’art. 74 Cost. il Presidente della Repubblica, prima di promulgare la legge, può con messaggio motivato alle Camere chiedere una nuova deliberazione. Se le Camere approvano nuovamente la legge, questa deve essere promulgata.</a:t>
            </a:r>
            <a:endParaRPr b="0" lang="en-US" sz="2400" spc="-1" strike="noStrike">
              <a:solidFill>
                <a:srgbClr val="000000"/>
              </a:solidFill>
              <a:latin typeface="Times New Roman"/>
            </a:endParaRPr>
          </a:p>
          <a:p>
            <a:pPr marL="291600" indent="-2916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La pubblicazione.</a:t>
            </a:r>
            <a:r>
              <a:rPr b="0" lang="it-IT" sz="2400" spc="-1" strike="noStrike">
                <a:solidFill>
                  <a:srgbClr val="000000"/>
                </a:solidFill>
                <a:latin typeface="Times New Roman"/>
              </a:rPr>
              <a:t> Trova menzione episodicamente in Costituzione (art. 73, c. 3 o art. 138 Cost., con l’inversione tra promulgazione e pubblicazione)</a:t>
            </a:r>
            <a:endParaRPr b="0" lang="en-US" sz="2400" spc="-1" strike="noStrike">
              <a:solidFill>
                <a:srgbClr val="000000"/>
              </a:solidFill>
              <a:latin typeface="Times New Roman"/>
            </a:endParaRPr>
          </a:p>
          <a:p>
            <a:pPr marL="291600" indent="-2916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Con la pubblicazione si tende alla divulgazione degli atti perché si abbia conoscenza dei medesimi; ad essa si lega quindi l’operatività dell’atto, come avviene per la legge e per gli altri atti-fonte. D’altronde la natura di fonti che compongono l’ord. giur. comporta la necessità di essere conosciute per potere essere osservate ed eseguite.</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8EA71BA-0585-44F4-B3F6-67176B410B6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l Governo</a:t>
            </a:r>
            <a:endParaRPr b="0" lang="en-US" sz="44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Riferimenti: art. 92 Cost.</a:t>
            </a:r>
            <a:endParaRPr b="0" lang="en-US" sz="2400" spc="-1" strike="noStrike">
              <a:solidFill>
                <a:srgbClr val="000000"/>
              </a:solidFill>
              <a:latin typeface="Times New Roman"/>
            </a:endParaRPr>
          </a:p>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Il Governo è governo della Repubblica e non più del Capo dello Stato per sottolineare l’indipendenza di quest’organo.</a:t>
            </a:r>
            <a:endParaRPr b="0" lang="en-US" sz="2400" spc="-1" strike="noStrike">
              <a:solidFill>
                <a:srgbClr val="000000"/>
              </a:solidFill>
              <a:latin typeface="Times New Roman"/>
            </a:endParaRPr>
          </a:p>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Il governo è organo complesso o complesso di organi perché composto dal P.d.C. e dai Ministri, che insieme costituiscono il Consiglio dei Ministri.</a:t>
            </a:r>
            <a:endParaRPr b="0" lang="en-US" sz="2400" spc="-1" strike="noStrike">
              <a:solidFill>
                <a:srgbClr val="000000"/>
              </a:solidFill>
              <a:latin typeface="Times New Roman"/>
            </a:endParaRPr>
          </a:p>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Il P.d.C. però non è più un </a:t>
            </a:r>
            <a:r>
              <a:rPr b="0" i="1" lang="it-IT" sz="2400" spc="-1" strike="noStrike">
                <a:solidFill>
                  <a:srgbClr val="000000"/>
                </a:solidFill>
                <a:latin typeface="Times New Roman"/>
              </a:rPr>
              <a:t>primus inter pares, </a:t>
            </a:r>
            <a:r>
              <a:rPr b="0" lang="it-IT" sz="2400" spc="-1" strike="noStrike">
                <a:solidFill>
                  <a:srgbClr val="000000"/>
                </a:solidFill>
                <a:latin typeface="Times New Roman"/>
              </a:rPr>
              <a:t>ma si colloca su un piano diverso rispetto agli altri Ministri. Lo stesso art. 92, infatti, chiarisce che che i Ministri sono nominati su proposta del P.d.C., anche se quest’ultimo, di fatto, è assai limitato dalle indicazioni dei partiti della maggioranza.</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4CB89AE-BC19-46F1-A658-42F486C0EB6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l Governo</a:t>
            </a:r>
            <a:endParaRPr b="0" lang="en-US" sz="4400" spc="-1" strike="noStrike">
              <a:solidFill>
                <a:srgbClr val="000000"/>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ogni sistema costituzionale contemporaneo il governo è, ad un tempo, organo di vertice degli apparati amministrativi dello Stato e preposto alla loro guida, ma svolge anche un ruolo centrale nella formazione e nell’attuazione dell’indirizzo politico.</a:t>
            </a:r>
            <a:endParaRPr b="0" lang="en-US" sz="2400" spc="-1" strike="noStrike">
              <a:solidFill>
                <a:srgbClr val="000000"/>
              </a:solidFill>
              <a:latin typeface="Times New Roman"/>
            </a:endParaRPr>
          </a:p>
          <a:p>
            <a:pPr marL="315360" indent="-3153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 quanto queste formule riassuntive non siano adeguate, si può dire che il governo non è il “comitato esecutivo”, ma semmai il “comitato direttivo” del Parlamento. Infatti nel Governo siedono, sovente, i più autorevoli esponenti della maggioranza ed il Parlamento nell’approvare la piattaforma politico-programmatica presentata dal Governo, approva il programma del complessivo sistema delle istituzioni politiche centrali.</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48871CA-C43A-468C-9611-9189AFADFC9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 formazione del Governo</a:t>
            </a: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1000"/>
          </a:bodyPr>
          <a:p>
            <a:pPr marL="312120" indent="-3121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iferimento: art. 93 Cost.</a:t>
            </a:r>
            <a:endParaRPr b="0" lang="en-US" sz="2400" spc="-1" strike="noStrike">
              <a:solidFill>
                <a:srgbClr val="000000"/>
              </a:solidFill>
              <a:latin typeface="Times New Roman"/>
            </a:endParaRPr>
          </a:p>
          <a:p>
            <a:pPr marL="312120" indent="-3121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 formazione del Governo si realizza con l’adozione dei decreti presidenziali di nomina, ma l’art. 93 subordina esplicitamente l’assunzione delle funzioni di governo al giuramento, che avviene immediatamente dopo la firma dei decreti di nomina.</a:t>
            </a:r>
            <a:endParaRPr b="0" lang="en-US" sz="2400" spc="-1" strike="noStrike">
              <a:solidFill>
                <a:srgbClr val="000000"/>
              </a:solidFill>
              <a:latin typeface="Times New Roman"/>
            </a:endParaRPr>
          </a:p>
          <a:p>
            <a:pPr marL="312120" indent="-3121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l giuramento va inteso come riconferma del generico dovere di fedeltà (di cui all’art. 54 Cost.) che grava su tutti coloro che sono titolari di funzioni pubbliche particolarmente elevate.</a:t>
            </a:r>
            <a:endParaRPr b="0" lang="en-US" sz="2400" spc="-1" strike="noStrike">
              <a:solidFill>
                <a:srgbClr val="000000"/>
              </a:solidFill>
              <a:latin typeface="Times New Roman"/>
            </a:endParaRPr>
          </a:p>
          <a:p>
            <a:pPr marL="312120" indent="-3121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po aver prestato giuramento i Ministri assumono le proprie funzioni, sicché la fiducia parlamentare funziona da condizione risolutiva e non sospensiva rispetto all’entrata in funzione del nuovo Governo.</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41EB74B-6E67-462D-BC5A-F3E4B82DC7D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 formazione del Governo</a:t>
            </a:r>
            <a:endParaRPr b="0" lang="en-US" sz="4400" spc="-1" strike="noStrike">
              <a:solidFill>
                <a:srgbClr val="000000"/>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I poteri del Governo prima che le Camere gli conferiscano la fiducia. Un esame del complessivo sistema costituzionale e della prassi affermatasi porta a ritenere che il Governo, prima della fiducia, può disporre di tutti i suoi poteri, anche se appare opportuna un’autolimitazione dell’esercizio degli stessi.</a:t>
            </a:r>
            <a:endParaRPr b="0" lang="en-US" sz="2400" spc="-1" strike="noStrike">
              <a:solidFill>
                <a:srgbClr val="000000"/>
              </a:solidFill>
              <a:latin typeface="Times New Roman"/>
            </a:endParaRPr>
          </a:p>
          <a:p>
            <a:pPr marL="315360" indent="-3153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In verità il Governo, prima della concessione della fiducia è tenuto ad adottare atti di grande rilevanza politica ed istituzionale (primo tra tutti l’approvazione del nuovo programma di governo), e, comunque, varie evenienze possono rendere necessaria l’adozione di importanti atti governativi. D’altro canto i governi dimissionari, ed addirittura quelli sfiduciati, restano in carica per il disbrigo degli affari correnti </a:t>
            </a:r>
            <a:r>
              <a:rPr b="0" lang="it-IT" sz="2400" spc="-1" strike="noStrike">
                <a:solidFill>
                  <a:srgbClr val="000000"/>
                </a:solidFill>
                <a:latin typeface="Times New Roman"/>
                <a:ea typeface="Arial Unicode MS"/>
              </a:rPr>
              <a:t>    </a:t>
            </a:r>
            <a:r>
              <a:rPr b="0" lang="it-IT" sz="2400" spc="-1" strike="noStrike">
                <a:solidFill>
                  <a:srgbClr val="000000"/>
                </a:solidFill>
                <a:latin typeface="Times New Roman"/>
              </a:rPr>
              <a:t> al nuovo almeno gli stessi poteri.</a:t>
            </a:r>
            <a:endParaRPr b="0" lang="en-US" sz="2400" spc="-1" strike="noStrike">
              <a:solidFill>
                <a:srgbClr val="000000"/>
              </a:solidFill>
              <a:latin typeface="Times New Roman"/>
            </a:endParaRPr>
          </a:p>
        </p:txBody>
      </p:sp>
      <p:sp>
        <p:nvSpPr>
          <p:cNvPr id="74" name=""/>
          <p:cNvSpPr/>
          <p:nvPr/>
        </p:nvSpPr>
        <p:spPr>
          <a:xfrm>
            <a:off x="3581280" y="6477120"/>
            <a:ext cx="304920" cy="75960"/>
          </a:xfrm>
          <a:prstGeom prst="rightArrow">
            <a:avLst>
              <a:gd name="adj1" fmla="val 50000"/>
              <a:gd name="adj2" fmla="val 100355"/>
            </a:avLst>
          </a:prstGeom>
          <a:solidFill>
            <a:srgbClr val="00cc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69F547D-87C3-41A7-A664-5CCD3E08B29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 fiducia</a:t>
            </a: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iferimento: art. 94 Cost.</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rt. 94 razionalizza il meccanismo della fiducia, che deve essere concessa da entrambe le Camere (a conferma dell’impostazione bicamerale).</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 fiducia è accordata sulla base di un atto che si chiama </a:t>
            </a:r>
            <a:r>
              <a:rPr b="0" i="1" lang="en-US" sz="2400" spc="-1" strike="noStrike">
                <a:solidFill>
                  <a:srgbClr val="000000"/>
                </a:solidFill>
                <a:latin typeface="Times New Roman"/>
              </a:rPr>
              <a:t>mozione </a:t>
            </a:r>
            <a:r>
              <a:rPr b="0" lang="en-US" sz="2400" spc="-1" strike="noStrike">
                <a:solidFill>
                  <a:srgbClr val="000000"/>
                </a:solidFill>
                <a:latin typeface="Times New Roman"/>
              </a:rPr>
              <a:t>che deve essere motivata, perché deve impegnare il Governo ad una determinata politica, cioè deve contenere una piattaforma di indirizzo politico che il Governo si impegna a realizzare: piattaforma che poi si identifica con quella esposta dal P.d.C. nelle “dichiarazioni programmatiche” che egli rende note all’atto della richiesta della fiducia e che sono state previamente deliberate dal Consiglio dei Ministri.</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A31F301-9B80-46AD-98FC-523393D9F7B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 fiducia</a:t>
            </a: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1000"/>
          </a:bodyPr>
          <a:p>
            <a:pPr marL="312120" indent="-3121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malità della votazione: la fiducia va votata entro dieci giorni dalla nomina del Governo e per appello nominale. </a:t>
            </a:r>
            <a:endParaRPr b="0" lang="en-US" sz="2400" spc="-1" strike="noStrike">
              <a:solidFill>
                <a:srgbClr val="000000"/>
              </a:solidFill>
              <a:latin typeface="Times New Roman"/>
            </a:endParaRPr>
          </a:p>
          <a:p>
            <a:pPr marL="312120" indent="-3121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l conferimento della fiducia dovrebbe permettere la permanenza in carica del Governo per l’intera durata della legislatura, salva l’ipotesi di revoca della fiducia mediante approvazione di una votazione a) motivata e votata per appello nominale; b) firmata da almeno un decimo dei componenti della Camera; c) messa in discussione non prima di tre giorni dalla sua presentazione.</a:t>
            </a:r>
            <a:endParaRPr b="0" lang="en-US" sz="2400" spc="-1" strike="noStrike">
              <a:solidFill>
                <a:srgbClr val="000000"/>
              </a:solidFill>
              <a:latin typeface="Times New Roman"/>
            </a:endParaRPr>
          </a:p>
          <a:p>
            <a:pPr marL="312120" indent="-3121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 modalità di approvazione di questa mozione tendono a garantire che questo istituto venga utilizzato solo nei casi in cui il comportamento del Governo risulti in grave contrasto con gli indirizzi approvati nel programma e si evitino colpi di mano.</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DCD8F48-5D5A-4241-9598-89ED5D9A20D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 fiducia</a:t>
            </a:r>
            <a:endParaRPr b="0" lang="en-US" sz="4400" spc="-1" strike="noStrike">
              <a:solidFill>
                <a:srgbClr val="000000"/>
              </a:solidFill>
              <a:latin typeface="Times New Roman"/>
            </a:endParaRPr>
          </a:p>
        </p:txBody>
      </p:sp>
      <p:sp>
        <p:nvSpPr>
          <p:cNvPr id="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9000"/>
          </a:bodyPr>
          <a:p>
            <a:pPr marL="305280" indent="-3052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Secondo l’art. 94, comma IV, il voto contrario di una o di entrambe le Camere su una proposta del Governo non comporta obbligo di dimissioni (non equivale a sfiducia)</a:t>
            </a:r>
            <a:endParaRPr b="0" lang="en-US" sz="2400" spc="-1" strike="noStrike">
              <a:solidFill>
                <a:srgbClr val="000000"/>
              </a:solidFill>
              <a:latin typeface="Times New Roman"/>
            </a:endParaRPr>
          </a:p>
          <a:p>
            <a:pPr marL="305280" indent="-3052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Diverso è il caso in cui il Governo stesso abbia posto la fiducia su un provvedimento che esso presenta in Parlamento. La consuetudine e, ora, l’avallo dell’art. 116 Reg. Camera lo consentono. Quali sono gli scopi che il Governo si propone quando pone la questione di fiducia?</a:t>
            </a:r>
            <a:endParaRPr b="0" lang="en-US" sz="2400" spc="-1" strike="noStrike">
              <a:solidFill>
                <a:srgbClr val="000000"/>
              </a:solidFill>
              <a:latin typeface="Times New Roman"/>
            </a:endParaRPr>
          </a:p>
          <a:p>
            <a:pPr marL="305280" indent="-3052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Fondamentalmente due: a) verificare la saldezza della sua maggioranza e b) combattere l’ostruzionismo (infatti la presentazione della mozione fa decadere tutti gli emendamenti).</a:t>
            </a:r>
            <a:endParaRPr b="0" lang="en-US" sz="2400" spc="-1" strike="noStrike">
              <a:solidFill>
                <a:srgbClr val="000000"/>
              </a:solidFill>
              <a:latin typeface="Times New Roman"/>
            </a:endParaRPr>
          </a:p>
          <a:p>
            <a:pPr marL="305280" indent="-3052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Se il voto contrario non comporta obbligo di dimissioni  significa pure che il Governo può darle spontaneamente.</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E122AE8-FD4B-4C2A-A963-94B761D78A0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 funzione legislativa</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Generalmente nell’ambito del procedimento si distinguono tre fasi:</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La fase dell’iniziativa;</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La fase costitutiva;</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La fase integrativa dell’efficacia.</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La fase dell’iniziativa. L’iniziativa appartiene, secondo quanto statuisce l’art. 71 della Costituzione al Governo, a ciascun membro del Parlamento ed al popolo. Peraltro l’iniziativa legislativa è prevista anche a favore del CNEL (art. 99) e dei Consigli regionali (art. 121).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009A693-C6AF-4F58-ABD4-2DE2A79CAFF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 crisi di Governo</a:t>
            </a:r>
            <a:endParaRPr b="0" lang="en-US" sz="4400" spc="-1" strike="noStrike">
              <a:solidFill>
                <a:srgbClr val="000000"/>
              </a:solidFill>
              <a:latin typeface="Times New Roman"/>
            </a:endParaRPr>
          </a:p>
        </p:txBody>
      </p:sp>
      <p:sp>
        <p:nvSpPr>
          <p:cNvPr id="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1000"/>
          </a:bodyPr>
          <a:p>
            <a:pPr marL="312120" indent="-3121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Discorso diverso è, se tutte queste che nascono come crisi extraparlamentari (vale a dire maturate all’interno della coalizione della maggioranza e non in Parlamento) possano e debbano essere riportate nell’alveo parlamentare. La risposta sembra essere positiva almeno quando le ragioni della crisi non siano state sufficientemente esplicitate dal P.d.C. dimissionario. La prassi ha avuto consistenti oscillazioni. Pertini e Cossiga hanno invitato i governi dimissionari a presentarsi in Parlamento per spiegare i motivi della crisi ed aprire un dibattito.</a:t>
            </a:r>
            <a:endParaRPr b="0" lang="en-US" sz="2400" spc="-1" strike="noStrike">
              <a:solidFill>
                <a:srgbClr val="000000"/>
              </a:solidFill>
              <a:latin typeface="Times New Roman"/>
            </a:endParaRPr>
          </a:p>
          <a:p>
            <a:pPr marL="312120" indent="-3121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Il nostro ordinamento non conosce la “mozione di sfiducia costruttiva”: chi presenta la mozione indica pure una nuova compagine governativa. Così si razionalizza il sistema, ma si rende più difficile la sfiducia.</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33FC7E4-253F-47A0-92D1-3484D7E3A05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 formazione del Governo</a:t>
            </a:r>
            <a:endParaRPr b="0" lang="en-US" sz="4400" spc="-1" strike="noStrike">
              <a:solidFill>
                <a:srgbClr val="000000"/>
              </a:solidFill>
              <a:latin typeface="Times New Roman"/>
            </a:endParaRPr>
          </a:p>
        </p:txBody>
      </p:sp>
      <p:sp>
        <p:nvSpPr>
          <p:cNvPr id="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La formazione del governo dà luogo ad un procedimento nel senso tecnicamente proprio dell’espressione e si concreta, dunque, in diverse fasi, ognuna delle quali comprende attività, in parte disciplinate direttamente in Costituzione, in parte affermatesi in via consuetudinaria.</a:t>
            </a:r>
            <a:endParaRPr b="0" lang="en-US" sz="2400" spc="-1" strike="noStrike">
              <a:solidFill>
                <a:srgbClr val="000000"/>
              </a:solidFill>
              <a:latin typeface="Times New Roman"/>
            </a:endParaRPr>
          </a:p>
          <a:p>
            <a:pPr marL="315360" indent="-3153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La formazione del G. è il risultato di due serie procedimentali diverse, che rispettivamente pongono capo a: a) la nomina del P.d.C.; b) la nomina, su proposta di questi, dei Ministri. Nel primo caso la Costituzione si limita ad indicare l’atto finale, che integra la fase costitutiva del risultato; nel secondo precisa i momenti essenziali della fase preparatoria (la proposta) e di quella costitutiva (la nomina).In pratica entrambi i subprocedimenti si compongono di attività ulteriori.</a:t>
            </a:r>
            <a:r>
              <a:rPr b="0" lang="it-IT"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3BC69DB-9C85-4701-8BA7-D43053CD740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l Governo</a:t>
            </a:r>
            <a:endParaRPr b="0" lang="en-US" sz="4400" spc="-1" strike="noStrike">
              <a:solidFill>
                <a:srgbClr val="000000"/>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1000"/>
          </a:bodyPr>
          <a:p>
            <a:pPr marL="312120" indent="-3121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In particolare la nomina del P.d.C. è preceduta da un’attività preparatoria i cui momenti più rilevanti sono: a) le consultazioni; b) le eventuali missioni esplorative e pre-incarichi; c) il conferimento dell’incarico e l’attività dell’incaricato.</a:t>
            </a:r>
            <a:endParaRPr b="0" lang="en-US" sz="2400" spc="-1" strike="noStrike">
              <a:solidFill>
                <a:srgbClr val="000000"/>
              </a:solidFill>
              <a:latin typeface="Times New Roman"/>
            </a:endParaRPr>
          </a:p>
          <a:p>
            <a:pPr marL="312120" indent="-3121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Tutta questa fase ha subito un considerevole ridimensionamento a seguito dell’entrata in funzione dei nuovi sistemi elettorali, che anticipano l’accordo di coalizione e l’indicazione del candidato a </a:t>
            </a:r>
            <a:r>
              <a:rPr b="0" i="1" lang="it-IT" sz="2400" spc="-1" strike="noStrike">
                <a:solidFill>
                  <a:srgbClr val="000000"/>
                </a:solidFill>
                <a:latin typeface="Times New Roman"/>
              </a:rPr>
              <a:t>premier</a:t>
            </a:r>
            <a:r>
              <a:rPr b="0" lang="it-IT" sz="2400" spc="-1" strike="noStrike">
                <a:solidFill>
                  <a:srgbClr val="000000"/>
                </a:solidFill>
                <a:latin typeface="Times New Roman"/>
              </a:rPr>
              <a:t> al momento della formazione dei cartelli elettorali.</a:t>
            </a:r>
            <a:endParaRPr b="0" lang="en-US" sz="2400" spc="-1" strike="noStrike">
              <a:solidFill>
                <a:srgbClr val="000000"/>
              </a:solidFill>
              <a:latin typeface="Times New Roman"/>
            </a:endParaRPr>
          </a:p>
          <a:p>
            <a:pPr marL="312120" indent="-3121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Sono ammessi interventi presidenziali sulla composizione del Governo, è generalmente riconosciuto che il P.d.R. possa esprimersi sull’opportunità o inopportunità di includere certe  personalità nel Governo.</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A871EC0-8403-48AB-8DB0-D3FC6C6ABF6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 struttura del Governo</a:t>
            </a:r>
            <a:endParaRPr b="0" lang="en-US" sz="4400" spc="-1" strike="noStrike">
              <a:solidFill>
                <a:srgbClr val="000000"/>
              </a:solidFill>
              <a:latin typeface="Times New Roman"/>
            </a:endParaRPr>
          </a:p>
        </p:txBody>
      </p:sp>
      <p:sp>
        <p:nvSpPr>
          <p:cNvPr id="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9000"/>
          </a:bodyPr>
          <a:p>
            <a:pPr marL="305280" indent="-3052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La struttura del Governo è articolata in quanto, accanto alle componenti necessarie previste in Costituzione, esistono altre figure, non necessarie, che traggono titolo da altre fonti.</a:t>
            </a:r>
            <a:endParaRPr b="0" lang="en-US" sz="2400" spc="-1" strike="noStrike">
              <a:solidFill>
                <a:srgbClr val="000000"/>
              </a:solidFill>
              <a:latin typeface="Times New Roman"/>
            </a:endParaRPr>
          </a:p>
          <a:p>
            <a:pPr marL="305280" indent="-3052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Organi non necessari sono il Vice Presidente del Consiglio ed i Ministri senza portafoglio, che hanno veste di Ministri, ma hanno caratteristiche peculiari e variabili, sia quanto alle attribuzioni affidate, sia quanto alla loro stessa presenza nella compagine ministeriale.</a:t>
            </a:r>
            <a:endParaRPr b="0" lang="en-US" sz="2400" spc="-1" strike="noStrike">
              <a:solidFill>
                <a:srgbClr val="000000"/>
              </a:solidFill>
              <a:latin typeface="Times New Roman"/>
            </a:endParaRPr>
          </a:p>
          <a:p>
            <a:pPr marL="305280" indent="-3052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Art. 95 Cost, tre distinte posizioni: il Cons.dei Min.i, che è organo della collegialità ed espressione dell’indirizzo complessivo del Governo; i Min.i, autonomia e diversificazione di responsabilità corrispondente ai vari settori; il P.d.C. monocratico e momento di coordinamento.</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1AC42FA-4C79-4FDB-AFDF-3F0F1CACAD6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 struttura del Governo</a:t>
            </a: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Sul modo di combinarsi dei rapporti tra gli organi di Gov. non vi è concordia di opinioni tra quanti valorizzano la figura del P.d.C., attribuendo importanza decisiva ai poteri conferitigli in Cost.; quanti considerano preminente la collegialità facendo leva sulle competenze del Consiglio a decidere la pol. gen. del Governo, quanti sottolineano l’esistenza di spinte centrifughe e ricostruiscono un governo “policentrico”.</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Nel Governo:</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Il </a:t>
            </a:r>
            <a:r>
              <a:rPr b="1" lang="it-IT" sz="2400" spc="-1" strike="noStrike">
                <a:solidFill>
                  <a:srgbClr val="000000"/>
                </a:solidFill>
                <a:latin typeface="Times New Roman"/>
              </a:rPr>
              <a:t>Presidente del Consiglio</a:t>
            </a:r>
            <a:r>
              <a:rPr b="0" lang="it-IT" sz="2400" spc="-1" strike="noStrike">
                <a:solidFill>
                  <a:srgbClr val="000000"/>
                </a:solidFill>
                <a:latin typeface="Times New Roman"/>
              </a:rPr>
              <a:t> ha i seguenti poteri:</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F8A1AE2-05E8-47AA-AE71-93A7332DB49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 struttura del Governo</a:t>
            </a: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572760" indent="-57276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Times New Roman"/>
              </a:rPr>
              <a:t>Di esternazione </a:t>
            </a:r>
            <a:r>
              <a:rPr b="0" i="1" lang="it-IT" sz="2400" spc="-1" strike="noStrike">
                <a:solidFill>
                  <a:srgbClr val="000000"/>
                </a:solidFill>
                <a:latin typeface="Times New Roman"/>
                <a:ea typeface="Arial Unicode MS"/>
              </a:rPr>
              <a:t>    </a:t>
            </a:r>
            <a:r>
              <a:rPr b="0" i="1" lang="it-IT" sz="2400" spc="-1" strike="noStrike">
                <a:solidFill>
                  <a:srgbClr val="000000"/>
                </a:solidFill>
                <a:latin typeface="Times New Roman"/>
              </a:rPr>
              <a:t> </a:t>
            </a:r>
            <a:r>
              <a:rPr b="0" lang="it-IT" sz="2400" spc="-1" strike="noStrike">
                <a:solidFill>
                  <a:srgbClr val="000000"/>
                </a:solidFill>
                <a:latin typeface="Times New Roman"/>
              </a:rPr>
              <a:t>ossia manifesta all’esterno l’indirizzo politico del governo;</a:t>
            </a:r>
            <a:endParaRPr b="0" lang="en-US" sz="2400" spc="-1" strike="noStrike">
              <a:solidFill>
                <a:srgbClr val="000000"/>
              </a:solidFill>
              <a:latin typeface="Times New Roman"/>
            </a:endParaRPr>
          </a:p>
          <a:p>
            <a:pPr marL="572760" indent="-57276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Times New Roman"/>
              </a:rPr>
              <a:t>Di rappresentanza     </a:t>
            </a:r>
            <a:r>
              <a:rPr b="0" i="1" lang="it-IT" sz="2400" spc="-1" strike="noStrike">
                <a:solidFill>
                  <a:srgbClr val="000000"/>
                </a:solidFill>
                <a:latin typeface="Times New Roman"/>
                <a:ea typeface="Arial Unicode MS"/>
              </a:rPr>
              <a:t> </a:t>
            </a:r>
            <a:r>
              <a:rPr b="0" lang="it-IT" sz="2400" spc="-1" strike="noStrike">
                <a:solidFill>
                  <a:srgbClr val="000000"/>
                </a:solidFill>
                <a:latin typeface="Times New Roman"/>
                <a:ea typeface="Arial Unicode MS"/>
              </a:rPr>
              <a:t>assume determinazioni impegnative per l’intero Governo;</a:t>
            </a:r>
            <a:r>
              <a:rPr b="0" i="1" lang="it-IT" sz="2400" spc="-1" strike="noStrike">
                <a:solidFill>
                  <a:srgbClr val="000000"/>
                </a:solidFill>
                <a:latin typeface="Times New Roman"/>
              </a:rPr>
              <a:t> </a:t>
            </a:r>
            <a:endParaRPr b="0" lang="en-US" sz="2400" spc="-1" strike="noStrike">
              <a:solidFill>
                <a:srgbClr val="000000"/>
              </a:solidFill>
              <a:latin typeface="Times New Roman"/>
            </a:endParaRPr>
          </a:p>
          <a:p>
            <a:pPr marL="572760" indent="-57276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Times New Roman"/>
              </a:rPr>
              <a:t>Di direzione </a:t>
            </a:r>
            <a:r>
              <a:rPr b="0" i="1" lang="it-IT" sz="2400" spc="-1" strike="noStrike">
                <a:solidFill>
                  <a:srgbClr val="000000"/>
                </a:solidFill>
                <a:latin typeface="Times New Roman"/>
                <a:ea typeface="Arial Unicode MS"/>
              </a:rPr>
              <a:t>    </a:t>
            </a:r>
            <a:r>
              <a:rPr b="0" lang="it-IT" sz="2400" spc="-1" strike="noStrike">
                <a:solidFill>
                  <a:srgbClr val="000000"/>
                </a:solidFill>
                <a:latin typeface="Times New Roman"/>
                <a:ea typeface="Arial Unicode MS"/>
              </a:rPr>
              <a:t>dell’intero organo collegiale;</a:t>
            </a:r>
            <a:endParaRPr b="0" lang="en-US" sz="2400" spc="-1" strike="noStrike">
              <a:solidFill>
                <a:srgbClr val="000000"/>
              </a:solidFill>
              <a:latin typeface="Times New Roman"/>
            </a:endParaRPr>
          </a:p>
          <a:p>
            <a:pPr marL="572760" indent="-57276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Times New Roman"/>
                <a:ea typeface="Arial Unicode MS"/>
              </a:rPr>
              <a:t>Di promozione e coordinamento      </a:t>
            </a:r>
            <a:r>
              <a:rPr b="0" lang="it-IT" sz="2400" spc="-1" strike="noStrike">
                <a:solidFill>
                  <a:srgbClr val="000000"/>
                </a:solidFill>
                <a:latin typeface="Times New Roman"/>
                <a:ea typeface="Arial Unicode MS"/>
              </a:rPr>
              <a:t>dell’attività dei Ministri.</a:t>
            </a:r>
            <a:endParaRPr b="0" lang="en-US" sz="2400" spc="-1" strike="noStrike">
              <a:solidFill>
                <a:srgbClr val="000000"/>
              </a:solidFill>
              <a:latin typeface="Times New Roman"/>
            </a:endParaRPr>
          </a:p>
          <a:p>
            <a:pPr marL="572760" indent="-5727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ea typeface="Arial Unicode MS"/>
              </a:rPr>
              <a:t>Al </a:t>
            </a:r>
            <a:r>
              <a:rPr b="1" lang="it-IT" sz="2400" spc="-1" strike="noStrike">
                <a:solidFill>
                  <a:srgbClr val="000000"/>
                </a:solidFill>
                <a:latin typeface="Times New Roman"/>
                <a:ea typeface="Arial Unicode MS"/>
              </a:rPr>
              <a:t>Consiglio dei Ministri</a:t>
            </a:r>
            <a:r>
              <a:rPr b="0" lang="it-IT" sz="2400" spc="-1" strike="noStrike">
                <a:solidFill>
                  <a:srgbClr val="000000"/>
                </a:solidFill>
                <a:latin typeface="Times New Roman"/>
                <a:ea typeface="Arial Unicode MS"/>
              </a:rPr>
              <a:t> spettano tutte le funzioni che la Costituzione e le leggi costituzionali attribuiscono al Governo (quando in Cost. si trova scritto Governo equivale a Consiglio dei Ministri), tutte le attribuzioni fissate dall’art. 2, comma 1 della L. n. 400/1988.</a:t>
            </a:r>
            <a:endParaRPr b="0" lang="en-US" sz="2400" spc="-1" strike="noStrike">
              <a:solidFill>
                <a:srgbClr val="000000"/>
              </a:solidFill>
              <a:latin typeface="Times New Roman"/>
            </a:endParaRPr>
          </a:p>
        </p:txBody>
      </p:sp>
      <p:sp>
        <p:nvSpPr>
          <p:cNvPr id="93" name=""/>
          <p:cNvSpPr/>
          <p:nvPr/>
        </p:nvSpPr>
        <p:spPr>
          <a:xfrm>
            <a:off x="3429000" y="2133720"/>
            <a:ext cx="304920" cy="75960"/>
          </a:xfrm>
          <a:prstGeom prst="rightArrow">
            <a:avLst>
              <a:gd name="adj1" fmla="val 50000"/>
              <a:gd name="adj2" fmla="val 100355"/>
            </a:avLst>
          </a:prstGeom>
          <a:solidFill>
            <a:srgbClr val="00cc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4" name=""/>
          <p:cNvSpPr/>
          <p:nvPr/>
        </p:nvSpPr>
        <p:spPr>
          <a:xfrm>
            <a:off x="3733920" y="2895480"/>
            <a:ext cx="304560" cy="76320"/>
          </a:xfrm>
          <a:prstGeom prst="rightArrow">
            <a:avLst>
              <a:gd name="adj1" fmla="val 50000"/>
              <a:gd name="adj2" fmla="val 99764"/>
            </a:avLst>
          </a:prstGeom>
          <a:solidFill>
            <a:srgbClr val="00cc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5" name=""/>
          <p:cNvSpPr/>
          <p:nvPr/>
        </p:nvSpPr>
        <p:spPr>
          <a:xfrm>
            <a:off x="2971800" y="3581280"/>
            <a:ext cx="304920" cy="76320"/>
          </a:xfrm>
          <a:prstGeom prst="rightArrow">
            <a:avLst>
              <a:gd name="adj1" fmla="val 50000"/>
              <a:gd name="adj2" fmla="val 99882"/>
            </a:avLst>
          </a:prstGeom>
          <a:solidFill>
            <a:srgbClr val="00cc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6" name=""/>
          <p:cNvSpPr/>
          <p:nvPr/>
        </p:nvSpPr>
        <p:spPr>
          <a:xfrm>
            <a:off x="5410080" y="3962520"/>
            <a:ext cx="304920" cy="75960"/>
          </a:xfrm>
          <a:prstGeom prst="rightArrow">
            <a:avLst>
              <a:gd name="adj1" fmla="val 50000"/>
              <a:gd name="adj2" fmla="val 100355"/>
            </a:avLst>
          </a:prstGeom>
          <a:solidFill>
            <a:srgbClr val="00cc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F906176-B04E-467D-8E5F-C165CE597D3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 struttura del Governo</a:t>
            </a:r>
            <a:endParaRPr b="0" lang="en-US" sz="4400" spc="-1" strike="noStrike">
              <a:solidFill>
                <a:srgbClr val="000000"/>
              </a:solidFill>
              <a:latin typeface="Times New Roman"/>
            </a:endParaRPr>
          </a:p>
        </p:txBody>
      </p:sp>
      <p:sp>
        <p:nvSpPr>
          <p:cNvPr id="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560520" indent="-5605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l Consiglio dei Ministri pone in essere:</a:t>
            </a:r>
            <a:endParaRPr b="0" lang="en-US" sz="2400" spc="-1" strike="noStrike">
              <a:solidFill>
                <a:srgbClr val="000000"/>
              </a:solidFill>
              <a:latin typeface="Times New Roman"/>
            </a:endParaRPr>
          </a:p>
          <a:p>
            <a:pPr marL="560520" indent="-56052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ti di indirizzo politico;</a:t>
            </a:r>
            <a:endParaRPr b="0" lang="en-US" sz="2400" spc="-1" strike="noStrike">
              <a:solidFill>
                <a:srgbClr val="000000"/>
              </a:solidFill>
              <a:latin typeface="Times New Roman"/>
            </a:endParaRPr>
          </a:p>
          <a:p>
            <a:pPr marL="560520" indent="-56052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ti di normazione;</a:t>
            </a:r>
            <a:endParaRPr b="0" lang="en-US" sz="2400" spc="-1" strike="noStrike">
              <a:solidFill>
                <a:srgbClr val="000000"/>
              </a:solidFill>
              <a:latin typeface="Times New Roman"/>
            </a:endParaRPr>
          </a:p>
          <a:p>
            <a:pPr marL="560520" indent="-56052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ti nel settore delle relazioni estere;</a:t>
            </a:r>
            <a:endParaRPr b="0" lang="en-US" sz="2400" spc="-1" strike="noStrike">
              <a:solidFill>
                <a:srgbClr val="000000"/>
              </a:solidFill>
              <a:latin typeface="Times New Roman"/>
            </a:endParaRPr>
          </a:p>
          <a:p>
            <a:pPr marL="560520" indent="-56052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ti di nomina.</a:t>
            </a:r>
            <a:endParaRPr b="0" lang="en-US" sz="2400" spc="-1" strike="noStrike">
              <a:solidFill>
                <a:srgbClr val="000000"/>
              </a:solidFill>
              <a:latin typeface="Times New Roman"/>
            </a:endParaRPr>
          </a:p>
          <a:p>
            <a:pPr marL="560520" indent="-5605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 Ministri. </a:t>
            </a:r>
            <a:r>
              <a:rPr b="0" lang="en-US" sz="2400" spc="-1" strike="noStrike">
                <a:solidFill>
                  <a:srgbClr val="000000"/>
                </a:solidFill>
                <a:latin typeface="Times New Roman"/>
              </a:rPr>
              <a:t>Rappresentano la “doppia anima” dell’esecutivo, nel senso che compiono attività di </a:t>
            </a:r>
            <a:r>
              <a:rPr b="0" i="1" lang="en-US" sz="2400" spc="-1" strike="noStrike">
                <a:solidFill>
                  <a:srgbClr val="000000"/>
                </a:solidFill>
                <a:latin typeface="Times New Roman"/>
              </a:rPr>
              <a:t>indirizzo</a:t>
            </a:r>
            <a:r>
              <a:rPr b="0" lang="en-US" sz="2400" spc="-1" strike="noStrike">
                <a:solidFill>
                  <a:srgbClr val="000000"/>
                </a:solidFill>
                <a:latin typeface="Times New Roman"/>
              </a:rPr>
              <a:t> nei vari atti politici verso il Governo o il Parlamento, ma anche attività di attuazione di questo, mediante l’esercizio di competenze amministrative che pongono in essere in quanto preposti ad un dicastero, ossia a quel complesso burocratico occorrente per la cura del settore di interessi affidato al Ministero.</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963507A-13B2-46E2-AD10-2DC899F8359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li atti normativi del Governo</a:t>
            </a:r>
            <a:endParaRPr b="0" lang="en-US" sz="4400" spc="-1" strike="noStrike">
              <a:solidFill>
                <a:srgbClr val="000000"/>
              </a:solidFill>
              <a:latin typeface="Times New Roman"/>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Come è noto in attuazione del principio di separazione dei poteri il Governo, di solito, può intervenire soltanto nella fase instaurativa del procedimento legislativo.</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Una deroga al principio di esclusività in tanto può essere prevista in quanto in quanto la legittimazione del potere al quale viene in via eccezionale conferito l’esercizio ditale funzione si fondi sul rapporto fiduciario col Parlamento.</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Il </a:t>
            </a:r>
            <a:r>
              <a:rPr b="1" lang="it-IT" sz="2400" spc="-1" strike="noStrike">
                <a:solidFill>
                  <a:srgbClr val="000000"/>
                </a:solidFill>
                <a:latin typeface="Times New Roman"/>
              </a:rPr>
              <a:t>Decreto legislativo: </a:t>
            </a:r>
            <a:r>
              <a:rPr b="0" lang="it-IT" sz="2400" spc="-1" strike="noStrike">
                <a:solidFill>
                  <a:srgbClr val="000000"/>
                </a:solidFill>
                <a:latin typeface="Times New Roman"/>
              </a:rPr>
              <a:t>riferimenti artt. 76 e 77, comma 1, Cost.</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La </a:t>
            </a:r>
            <a:r>
              <a:rPr b="0" i="1" lang="it-IT" sz="2400" spc="-1" strike="noStrike">
                <a:solidFill>
                  <a:srgbClr val="000000"/>
                </a:solidFill>
                <a:latin typeface="Times New Roman"/>
              </a:rPr>
              <a:t>ratio </a:t>
            </a:r>
            <a:r>
              <a:rPr b="0" lang="it-IT" sz="2400" spc="-1" strike="noStrike">
                <a:solidFill>
                  <a:srgbClr val="000000"/>
                </a:solidFill>
                <a:latin typeface="Times New Roman"/>
              </a:rPr>
              <a:t>è duplice: sgravare il lavoro parlamentare ed utilizzare la maggiore idoneità degli organi dell’esecutivo a trovare soluzioni di carattere tecnico.</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892F869-2F7B-4796-AC06-C8169470A5B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l decreto legislativo</a:t>
            </a:r>
            <a:endParaRPr b="0" lang="en-US" sz="44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0000"/>
          </a:bodyPr>
          <a:p>
            <a:pPr marL="308520" indent="-3085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Natura dell’atto di conferimento </a:t>
            </a:r>
            <a:r>
              <a:rPr b="0" lang="it-IT" sz="2400" spc="-1" strike="noStrike">
                <a:solidFill>
                  <a:srgbClr val="000000"/>
                </a:solidFill>
                <a:latin typeface="Times New Roman"/>
                <a:ea typeface="Arial Unicode MS"/>
              </a:rPr>
              <a:t>     delegazione all’esercizio di una funzione la cui titolarità resta alle Camere e non autorizzazione: quello che viene trasferito è l’esercizio della potestà legislativa e non la potestà in sé.</a:t>
            </a:r>
            <a:endParaRPr b="0" lang="en-US" sz="2400" spc="-1" strike="noStrike">
              <a:solidFill>
                <a:srgbClr val="000000"/>
              </a:solidFill>
              <a:latin typeface="Times New Roman"/>
            </a:endParaRPr>
          </a:p>
          <a:p>
            <a:pPr marL="308520" indent="-3085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ea typeface="Arial Unicode MS"/>
              </a:rPr>
              <a:t>Già la vecchia disciplina sui decreti legislativi limitava l’esercizio della potestà legislativa del Governo “entro i limiti delle delegazioni”, pur non precisando a quali criteri questi ultimi avrebbero dovuto rispondere. Con l’entrata in vigore della Costituzione è stato precisato il contenuto </a:t>
            </a:r>
            <a:r>
              <a:rPr b="0" i="1" lang="it-IT" sz="2400" spc="-1" strike="noStrike">
                <a:solidFill>
                  <a:srgbClr val="000000"/>
                </a:solidFill>
                <a:latin typeface="Times New Roman"/>
                <a:ea typeface="Arial Unicode MS"/>
              </a:rPr>
              <a:t>necessario </a:t>
            </a:r>
            <a:r>
              <a:rPr b="0" lang="it-IT" sz="2400" spc="-1" strike="noStrike">
                <a:solidFill>
                  <a:srgbClr val="000000"/>
                </a:solidFill>
                <a:latin typeface="Times New Roman"/>
                <a:ea typeface="Arial Unicode MS"/>
              </a:rPr>
              <a:t>della delegazione. Il Governo viene investito di una potestà legislativa dagli ambiti circostanziati, cioè diversa da quella piena del Parlamento.</a:t>
            </a:r>
            <a:endParaRPr b="0" lang="en-US" sz="2400" spc="-1" strike="noStrike">
              <a:solidFill>
                <a:srgbClr val="000000"/>
              </a:solidFill>
              <a:latin typeface="Times New Roman"/>
            </a:endParaRPr>
          </a:p>
          <a:p>
            <a:pPr marL="308520" indent="-3085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Quelli, di seguito descritti, sono i profili di particolare interesse.</a:t>
            </a:r>
            <a:endParaRPr b="0" lang="en-US" sz="2400" spc="-1" strike="noStrike">
              <a:solidFill>
                <a:srgbClr val="000000"/>
              </a:solidFill>
              <a:latin typeface="Times New Roman"/>
            </a:endParaRPr>
          </a:p>
        </p:txBody>
      </p:sp>
      <p:sp>
        <p:nvSpPr>
          <p:cNvPr id="103" name=""/>
          <p:cNvSpPr/>
          <p:nvPr/>
        </p:nvSpPr>
        <p:spPr>
          <a:xfrm>
            <a:off x="5105520" y="2133720"/>
            <a:ext cx="304560" cy="75960"/>
          </a:xfrm>
          <a:prstGeom prst="rightArrow">
            <a:avLst>
              <a:gd name="adj1" fmla="val 50000"/>
              <a:gd name="adj2" fmla="val 100237"/>
            </a:avLst>
          </a:prstGeom>
          <a:solidFill>
            <a:srgbClr val="00cc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DF828D1-AEAD-492C-B2E2-E1B9EBA6FF4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l decreto legislativo</a:t>
            </a: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597240" indent="-59724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 </a:t>
            </a:r>
            <a:r>
              <a:rPr b="0" i="1" lang="en-US" sz="2400" spc="-1" strike="noStrike">
                <a:solidFill>
                  <a:srgbClr val="000000"/>
                </a:solidFill>
                <a:latin typeface="Times New Roman"/>
              </a:rPr>
              <a:t>forma </a:t>
            </a:r>
            <a:r>
              <a:rPr b="0" lang="en-US" sz="2400" spc="-1" strike="noStrike">
                <a:solidFill>
                  <a:srgbClr val="000000"/>
                </a:solidFill>
                <a:latin typeface="Times New Roman"/>
              </a:rPr>
              <a:t>della delegazione: la delega viene conferita solo con legge e con il procedimento ordinario come si desume implicitamente dall’art. 72, comma 4, Cost.</a:t>
            </a:r>
            <a:endParaRPr b="0" lang="en-US" sz="2400" spc="-1" strike="noStrike">
              <a:solidFill>
                <a:srgbClr val="000000"/>
              </a:solidFill>
              <a:latin typeface="Times New Roman"/>
            </a:endParaRPr>
          </a:p>
          <a:p>
            <a:pPr marL="597240" indent="-59724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l </a:t>
            </a:r>
            <a:r>
              <a:rPr b="0" i="1" lang="en-US" sz="2400" spc="-1" strike="noStrike">
                <a:solidFill>
                  <a:srgbClr val="000000"/>
                </a:solidFill>
                <a:latin typeface="Times New Roman"/>
              </a:rPr>
              <a:t>tipo </a:t>
            </a:r>
            <a:r>
              <a:rPr b="0" lang="en-US" sz="2400" spc="-1" strike="noStrike">
                <a:solidFill>
                  <a:srgbClr val="000000"/>
                </a:solidFill>
                <a:latin typeface="Times New Roman"/>
              </a:rPr>
              <a:t>di fonte cui dà luogo la legge di delegazione, che non è in grado di innovare da sola l’ordinamento giuridico; in sostanza la legge di delegazione è fonte sulla produzione in quanto fonte che legittima un’altra fonte (il decreto legislativo) e fonte che detta i limiti.</a:t>
            </a:r>
            <a:endParaRPr b="0" lang="en-US" sz="2400" spc="-1" strike="noStrike">
              <a:solidFill>
                <a:srgbClr val="000000"/>
              </a:solidFill>
              <a:latin typeface="Times New Roman"/>
            </a:endParaRPr>
          </a:p>
          <a:p>
            <a:pPr marL="597240" indent="-59724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vocabilità </a:t>
            </a:r>
            <a:r>
              <a:rPr b="0" lang="en-US" sz="2400" spc="-1" strike="noStrike">
                <a:solidFill>
                  <a:srgbClr val="000000"/>
                </a:solidFill>
                <a:latin typeface="Times New Roman"/>
              </a:rPr>
              <a:t>della delega. Si tratta di un’ipotesi marginale perché verrebbe ad essere coinvolto il rapporto fiduciario a seguito di un mutamento dell’orientamento politico.</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C7BCD8F-386F-44CC-A2B7-D59C71B1B12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niziativa legislativa</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niziativa del Governo è disciplinata anche nell’art. 2, lett. b, L. n. 440/1988. E’ quella cui si attribuisce maggiore importanza per svariate ragioni. Anzitutto perché serve ad attuare il programma di governo sulla base del quale è stata concessa la fiducia. In secondo luogo perché è la più incisiva in quanto il Governo, nell’elaborazione delle sue proposte, può giovarsi del sostegno degli apparati ministeriali ed è in grado di indicare con maggior precisione i mezzi di copertura finanziaria (essenziali per il rispetto dell’art. 81 Cost.).</a:t>
            </a:r>
            <a:endParaRPr b="0" lang="en-US" sz="2400" spc="-1" strike="noStrike">
              <a:solidFill>
                <a:srgbClr val="000000"/>
              </a:solidFill>
              <a:latin typeface="Times New Roman"/>
            </a:endParaRPr>
          </a:p>
          <a:p>
            <a:pPr marL="315360" indent="-3153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utto ciò serve a giustificare la </a:t>
            </a:r>
            <a:r>
              <a:rPr b="0" i="1" lang="en-US" sz="2400" spc="-1" strike="noStrike">
                <a:solidFill>
                  <a:srgbClr val="000000"/>
                </a:solidFill>
                <a:latin typeface="Times New Roman"/>
              </a:rPr>
              <a:t>riserva </a:t>
            </a:r>
            <a:r>
              <a:rPr b="0" lang="en-US" sz="2400" spc="-1" strike="noStrike">
                <a:solidFill>
                  <a:srgbClr val="000000"/>
                </a:solidFill>
                <a:latin typeface="Times New Roman"/>
              </a:rPr>
              <a:t> di iniziativa legislativa al Governo per alcuni tipi di atti (conversione dei decreti legge, autorizzazione alla ratifica dei trattati internazionali, legge di bilancio, etc.).</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69A68C7-0C6F-4FF2-A1CC-DA451452159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l decreto legislativo</a:t>
            </a:r>
            <a:endParaRPr b="0" lang="en-US" sz="44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7000"/>
          </a:bodyPr>
          <a:p>
            <a:pPr marL="529920" indent="-529920">
              <a:lnSpc>
                <a:spcPct val="90000"/>
              </a:lnSpc>
              <a:spcBef>
                <a:spcPts val="601"/>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l </a:t>
            </a:r>
            <a:r>
              <a:rPr b="0" i="1" lang="en-US" sz="2400" spc="-1" strike="noStrike">
                <a:solidFill>
                  <a:srgbClr val="000000"/>
                </a:solidFill>
                <a:latin typeface="Times New Roman"/>
              </a:rPr>
              <a:t>contenuto </a:t>
            </a:r>
            <a:r>
              <a:rPr b="0" lang="en-US" sz="2400" spc="-1" strike="noStrike">
                <a:solidFill>
                  <a:srgbClr val="000000"/>
                </a:solidFill>
                <a:latin typeface="Times New Roman"/>
              </a:rPr>
              <a:t>della delegazione in parte va desunto da quanto indicato nell’art. 76, in parte può assumerne uno eventuale, variamente articolato e configurabile in relazione a ciò che le Assemblee ritengono di dover prescrivere al Governo, secondo i seguenti punti: </a:t>
            </a:r>
            <a:endParaRPr b="0" lang="en-US" sz="2400" spc="-1" strike="noStrike">
              <a:solidFill>
                <a:srgbClr val="000000"/>
              </a:solidFill>
              <a:latin typeface="Times New Roman"/>
            </a:endParaRPr>
          </a:p>
          <a:p>
            <a:pPr marL="529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     </a:t>
            </a:r>
            <a:r>
              <a:rPr b="0" i="1" lang="en-US" sz="2400" spc="-1" strike="noStrike">
                <a:solidFill>
                  <a:srgbClr val="000000"/>
                </a:solidFill>
                <a:latin typeface="Times New Roman"/>
              </a:rPr>
              <a:t>Contenuto definito. </a:t>
            </a:r>
            <a:r>
              <a:rPr b="0" lang="en-US" sz="2400" spc="-1" strike="noStrike">
                <a:solidFill>
                  <a:srgbClr val="000000"/>
                </a:solidFill>
                <a:latin typeface="Times New Roman"/>
              </a:rPr>
              <a:t>Non è ammessa una delega in bianco e non è ammessa la delega di un’intera materia. Ovviamente sono sottratti alla delegazione tutti quei casi in cui è richiesta un’attività governativa da sottoporre alle Camere (ad es. L. di bilancio).</a:t>
            </a:r>
            <a:endParaRPr b="0" lang="en-US" sz="2400" spc="-1" strike="noStrike">
              <a:solidFill>
                <a:srgbClr val="000000"/>
              </a:solidFill>
              <a:latin typeface="Times New Roman"/>
            </a:endParaRPr>
          </a:p>
          <a:p>
            <a:pPr marL="529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b     </a:t>
            </a:r>
            <a:r>
              <a:rPr b="0" i="1" lang="en-US" sz="2400" spc="-1" strike="noStrike">
                <a:solidFill>
                  <a:srgbClr val="000000"/>
                </a:solidFill>
                <a:latin typeface="Times New Roman"/>
              </a:rPr>
              <a:t>Tempo. </a:t>
            </a:r>
            <a:r>
              <a:rPr b="0" lang="en-US" sz="2400" spc="-1" strike="noStrike">
                <a:solidFill>
                  <a:srgbClr val="000000"/>
                </a:solidFill>
                <a:latin typeface="Times New Roman"/>
              </a:rPr>
              <a:t>Determinato il periodo entro il quale il Governo deve concludere la propria attività. Entro quel periodo deve pervenirsi all’emanazione dell’atto da parte del capo dello Stato. Possibilità di più decreti distinti.</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8134C3B-18DC-49EA-BA2F-7EAE0E11465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l decreto legislativo</a:t>
            </a: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5000"/>
          </a:bodyPr>
          <a:p>
            <a:pPr marL="291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c.</a:t>
            </a:r>
            <a:r>
              <a:rPr b="0" lang="en-US" sz="2400" spc="-1" strike="noStrike">
                <a:solidFill>
                  <a:srgbClr val="000000"/>
                </a:solidFill>
                <a:latin typeface="Times New Roman"/>
              </a:rPr>
              <a:t>    </a:t>
            </a:r>
            <a:r>
              <a:rPr b="0" i="1" lang="en-US" sz="2400" spc="-1" strike="noStrike">
                <a:solidFill>
                  <a:srgbClr val="000000"/>
                </a:solidFill>
                <a:latin typeface="Times New Roman"/>
              </a:rPr>
              <a:t>Principi e criteri direttivi. </a:t>
            </a:r>
            <a:r>
              <a:rPr b="0" lang="en-US" sz="2400" spc="-1" strike="noStrike">
                <a:solidFill>
                  <a:srgbClr val="000000"/>
                </a:solidFill>
                <a:latin typeface="Times New Roman"/>
              </a:rPr>
              <a:t>I punti qualificanti della nuova disciplina restano nelle mani delle Camere. Tant’è che, attualmente, facendosi sovente ricorso a questi strumenti, la dialettica maggioranza/opposizione, a volte aspra, si esplica nelle aule parlamentari (vedi, ad es. riforma delle pensioni o del sistema fiscale).</a:t>
            </a:r>
            <a:endParaRPr b="0" lang="en-US" sz="2400" spc="-1" strike="noStrike">
              <a:solidFill>
                <a:srgbClr val="000000"/>
              </a:solidFill>
              <a:latin typeface="Times New Roman"/>
            </a:endParaRPr>
          </a:p>
          <a:p>
            <a:pPr marL="291600" indent="-2916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l </a:t>
            </a:r>
            <a:r>
              <a:rPr b="0" i="1" lang="en-US" sz="2400" spc="-1" strike="noStrike">
                <a:solidFill>
                  <a:srgbClr val="000000"/>
                </a:solidFill>
                <a:latin typeface="Times New Roman"/>
              </a:rPr>
              <a:t>decreto delegato </a:t>
            </a:r>
            <a:r>
              <a:rPr b="0" lang="en-US" sz="2400" spc="-1" strike="noStrike">
                <a:solidFill>
                  <a:srgbClr val="000000"/>
                </a:solidFill>
                <a:latin typeface="Times New Roman"/>
              </a:rPr>
              <a:t>(art. 2, lett. c. L. 400/1988)</a:t>
            </a:r>
            <a:r>
              <a:rPr b="0" i="1" lang="en-US" sz="2400" spc="-1" strike="noStrike">
                <a:solidFill>
                  <a:srgbClr val="000000"/>
                </a:solidFill>
                <a:latin typeface="Times New Roman"/>
              </a:rPr>
              <a:t> </a:t>
            </a:r>
            <a:r>
              <a:rPr b="0" lang="en-US" sz="2400" spc="-1" strike="noStrike">
                <a:solidFill>
                  <a:srgbClr val="000000"/>
                </a:solidFill>
                <a:latin typeface="Times New Roman"/>
              </a:rPr>
              <a:t>viene deliberato dal consiglio dei Ministri, emanato con decreto del P.d.R., dotato di forza di legge.</a:t>
            </a:r>
            <a:endParaRPr b="0" lang="en-US" sz="2400" spc="-1" strike="noStrike">
              <a:solidFill>
                <a:srgbClr val="000000"/>
              </a:solidFill>
              <a:latin typeface="Times New Roman"/>
            </a:endParaRPr>
          </a:p>
          <a:p>
            <a:pPr marL="291600" indent="-2916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è l’eventualità che il decreto non rispetti le previsioni della legge di delegazione. L’eccesso di delega è accertabile dalla Corte per violazione della legge di delegazione, come </a:t>
            </a:r>
            <a:r>
              <a:rPr b="0" i="1" lang="en-US" sz="2400" spc="-1" strike="noStrike">
                <a:solidFill>
                  <a:srgbClr val="000000"/>
                </a:solidFill>
                <a:latin typeface="Times New Roman"/>
              </a:rPr>
              <a:t>norma interposta. </a:t>
            </a:r>
            <a:r>
              <a:rPr b="0" lang="en-US" sz="2400" spc="-1" strike="noStrike">
                <a:solidFill>
                  <a:srgbClr val="000000"/>
                </a:solidFill>
                <a:latin typeface="Times New Roman"/>
              </a:rPr>
              <a:t>Esempi: testi unici, trasferimento delle funzioni dallo Stato alle autonomie.</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43EC319-007C-43B0-B9DB-6FEF269F14F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l decreto legge</a:t>
            </a:r>
            <a:endParaRPr b="0" lang="en-US" sz="44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0000"/>
          </a:bodyPr>
          <a:p>
            <a:pPr marL="548280" indent="-5482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iferimento: art. 77 Costituzione (la necessità come fonte prevista e regolata dal diritto).</a:t>
            </a:r>
            <a:endParaRPr b="0" lang="en-US" sz="2400" spc="-1" strike="noStrike">
              <a:solidFill>
                <a:srgbClr val="000000"/>
              </a:solidFill>
              <a:latin typeface="Times New Roman"/>
            </a:endParaRPr>
          </a:p>
          <a:p>
            <a:pPr marL="548280" indent="-5482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rt. 77 disciplina i seguenti aspetti:</a:t>
            </a:r>
            <a:endParaRPr b="0" lang="en-US" sz="2400" spc="-1" strike="noStrike">
              <a:solidFill>
                <a:srgbClr val="000000"/>
              </a:solidFill>
              <a:latin typeface="Times New Roman"/>
            </a:endParaRPr>
          </a:p>
          <a:p>
            <a:pPr marL="548280" indent="-54828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 </a:t>
            </a:r>
            <a:r>
              <a:rPr b="0" i="1" lang="en-US" sz="2400" spc="-1" strike="noStrike">
                <a:solidFill>
                  <a:srgbClr val="000000"/>
                </a:solidFill>
                <a:latin typeface="Times New Roman"/>
              </a:rPr>
              <a:t>condizioni per l’emanazione. </a:t>
            </a:r>
            <a:r>
              <a:rPr b="0" lang="en-US" sz="2400" spc="-1" strike="noStrike">
                <a:solidFill>
                  <a:srgbClr val="000000"/>
                </a:solidFill>
                <a:latin typeface="Times New Roman"/>
              </a:rPr>
              <a:t>Sono costituite dalla necessità ed urgenza di disciplinare una qualsiasi evenienza che meriti una sia pur provvisoria disciplina, nel presupposto che il tempo necessario all’adozione di qualsiasi procedimento dinanzi alle Assemblee per varare una legge vanifichi la stessa finalità del provvedere (urgenza). In realtà non vi è alcun limite all’iniziativa dell’esecutivo in quanto manca un’enumerazione dei casi, resta solo il prudente apprezzamento del Governo. Apprezzamento di cui il Governo assume la responsabilità.</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4396175-BBCC-4F28-9379-17199117FC1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l decreto legge</a:t>
            </a:r>
            <a:endParaRPr b="0" lang="en-US" sz="4400" spc="-1" strike="noStrike">
              <a:solidFill>
                <a:srgbClr val="000000"/>
              </a:solidFill>
              <a:latin typeface="Times New Roman"/>
            </a:endParaRPr>
          </a:p>
        </p:txBody>
      </p:sp>
      <p:sp>
        <p:nvSpPr>
          <p:cNvPr id="1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1000"/>
          </a:bodyPr>
          <a:p>
            <a:pPr marL="312120" indent="-3121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Si è verificato un abuso del ricorso al decreto legge (in particolar modo con la pratica della reiterazione dei decreti). Abuso che è stato censurato dalla Corte Costituzionale (con la sentenza 302/1988) ove ha censurato: a) l’assenza dei presupposti di necessità ed urgenza b) l’invasione della competenza del Parlamento a regolare gli effetti del d.l. non convertito. </a:t>
            </a:r>
            <a:endParaRPr b="0" lang="en-US" sz="2400" spc="-1" strike="noStrike">
              <a:solidFill>
                <a:srgbClr val="000000"/>
              </a:solidFill>
              <a:latin typeface="Times New Roman"/>
            </a:endParaRPr>
          </a:p>
          <a:p>
            <a:pPr marL="312120" indent="-3121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La situazione si è stabilizzata attraverso la previsione dell’art. 15 della L. n. 400/1988 e le restrizioni ivi previste alla possibilità di far ricorso a questo strumento.</a:t>
            </a:r>
            <a:endParaRPr b="0" lang="en-US" sz="2400" spc="-1" strike="noStrike">
              <a:solidFill>
                <a:srgbClr val="000000"/>
              </a:solidFill>
              <a:latin typeface="Times New Roman"/>
            </a:endParaRPr>
          </a:p>
          <a:p>
            <a:pPr marL="312120" indent="-3121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Natura ed effetti del d.l. </a:t>
            </a:r>
            <a:r>
              <a:rPr b="0" lang="it-IT" sz="2400" spc="-1" strike="noStrike">
                <a:solidFill>
                  <a:srgbClr val="000000"/>
                </a:solidFill>
                <a:latin typeface="Times New Roman"/>
                <a:ea typeface="Arial Unicode MS"/>
              </a:rPr>
              <a:t>     Il decreto legge è un atto provvisorio, ma tuttavia dotato di forza di legge per 60 giorni. I rapporti che cadono nella disciplina da esso prevista vengono regolati dal d.l.</a:t>
            </a:r>
            <a:endParaRPr b="0" lang="en-US" sz="2400" spc="-1" strike="noStrike">
              <a:solidFill>
                <a:srgbClr val="000000"/>
              </a:solidFill>
              <a:latin typeface="Times New Roman"/>
            </a:endParaRPr>
          </a:p>
        </p:txBody>
      </p:sp>
      <p:sp>
        <p:nvSpPr>
          <p:cNvPr id="114" name=""/>
          <p:cNvSpPr/>
          <p:nvPr/>
        </p:nvSpPr>
        <p:spPr>
          <a:xfrm>
            <a:off x="4114800" y="5562720"/>
            <a:ext cx="304920" cy="75960"/>
          </a:xfrm>
          <a:prstGeom prst="rightArrow">
            <a:avLst>
              <a:gd name="adj1" fmla="val 50000"/>
              <a:gd name="adj2" fmla="val 100355"/>
            </a:avLst>
          </a:prstGeom>
          <a:solidFill>
            <a:srgbClr val="00cc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7CDBB5E-950D-4A19-80A2-69E5BB2339B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l decreto legge</a:t>
            </a:r>
            <a:endParaRPr b="0" lang="en-US" sz="4400" spc="-1" strike="noStrike">
              <a:solidFill>
                <a:srgbClr val="000000"/>
              </a:solidFill>
              <a:latin typeface="Times New Roman"/>
            </a:endParaRPr>
          </a:p>
        </p:txBody>
      </p:sp>
      <p:sp>
        <p:nvSpPr>
          <p:cNvPr id="1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l decreto legge deve essere convertito in legge entro 60 giorni. Quando lo convertono le Camere ne condividono in tutto o in parte la disciplina e ne “stabilizzano”, per così dire, gli effetti.</a:t>
            </a: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 non interviene la conversione, tutte le situazioni anteriori al provvedimento governativo vanno ricondotte e disciplinate così come preesistenti all’emanazione del d.l..</a:t>
            </a: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blighi che incombono sul Governo e sulle Camere.</a:t>
            </a: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 Governo incombe l’obbligo di trasmettere il giorno stesso il testo alle Camere e di non sottrarsi alla responsabilità.</a:t>
            </a: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e Camere incombe l’obbligo di esaminare il d.d.l. di conversione.</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5BA0624-7542-4AFF-81F0-B8FC4306309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l decreto legge</a:t>
            </a:r>
            <a:endParaRPr b="0" lang="en-US" sz="4400" spc="-1" strike="noStrike">
              <a:solidFill>
                <a:srgbClr val="000000"/>
              </a:solidFill>
              <a:latin typeface="Times New Roman"/>
            </a:endParaRPr>
          </a:p>
        </p:txBody>
      </p:sp>
      <p:sp>
        <p:nvSpPr>
          <p:cNvPr id="1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5000"/>
          </a:bodyPr>
          <a:p>
            <a:pPr marL="291600" indent="-2916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ntervento del Parlamento, vuoi con la conversione in legge, vuoi con l’approvazione della legge che disciplina i rapporti venuti meno (art. 77, comma 3), vale ad escludere qualsiasi responsabilità del Governo.</a:t>
            </a:r>
            <a:endParaRPr b="0" lang="en-US" sz="2400" spc="-1" strike="noStrike">
              <a:solidFill>
                <a:srgbClr val="000000"/>
              </a:solidFill>
              <a:latin typeface="Times New Roman"/>
            </a:endParaRPr>
          </a:p>
          <a:p>
            <a:pPr marL="291600" indent="-2916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 ammessa la possibilità di apportare emendamenti e modifiche al testo del disegno di legge presentato alle Camere perché queste ultime godono delle medesime potestà in ordine ad ogni disegno di legge.</a:t>
            </a:r>
            <a:endParaRPr b="0" lang="en-US" sz="2400" spc="-1" strike="noStrike">
              <a:solidFill>
                <a:srgbClr val="000000"/>
              </a:solidFill>
              <a:latin typeface="Times New Roman"/>
            </a:endParaRPr>
          </a:p>
          <a:p>
            <a:pPr marL="291600" indent="-2916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li emendamenti approvati entrano in vigore con l’entrata in vigore della legge di conversione.</a:t>
            </a:r>
            <a:endParaRPr b="0" lang="en-US" sz="2400" spc="-1" strike="noStrike">
              <a:solidFill>
                <a:srgbClr val="000000"/>
              </a:solidFill>
              <a:latin typeface="Times New Roman"/>
            </a:endParaRPr>
          </a:p>
          <a:p>
            <a:pPr marL="291600" indent="-2916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che in questo caso la L. 400/1988 ha razionalizzato il procedimento.</a:t>
            </a:r>
            <a:endParaRPr b="0" lang="en-US" sz="2400" spc="-1" strike="noStrike">
              <a:solidFill>
                <a:srgbClr val="000000"/>
              </a:solidFill>
              <a:latin typeface="Times New Roman"/>
            </a:endParaRPr>
          </a:p>
          <a:p>
            <a:pPr marL="291600" indent="-2916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 necessario indicare nel preambolo le ragioni straordinarie di necessità ed urgenza.</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05FEE12-1788-42A7-B338-1ED7E1F6F81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l decreto legge</a:t>
            </a:r>
            <a:endParaRPr b="0" lang="en-US" sz="4400" spc="-1" strike="noStrike">
              <a:solidFill>
                <a:srgbClr val="000000"/>
              </a:solidFill>
              <a:latin typeface="Times New Roman"/>
            </a:endParaRPr>
          </a:p>
        </p:txBody>
      </p:sp>
      <p:sp>
        <p:nvSpPr>
          <p:cNvPr id="1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560520" indent="-5605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e cosa il Governo non può fare con il decreto legge viene chiarito dall’art. 15 della L. 400/1988:</a:t>
            </a:r>
            <a:endParaRPr b="0" lang="en-US" sz="2400" spc="-1" strike="noStrike">
              <a:solidFill>
                <a:srgbClr val="000000"/>
              </a:solidFill>
              <a:latin typeface="Times New Roman"/>
            </a:endParaRPr>
          </a:p>
          <a:p>
            <a:pPr marL="560520" indent="-56052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n può conferire deleghe legislative;</a:t>
            </a:r>
            <a:endParaRPr b="0" lang="en-US" sz="2400" spc="-1" strike="noStrike">
              <a:solidFill>
                <a:srgbClr val="000000"/>
              </a:solidFill>
              <a:latin typeface="Times New Roman"/>
            </a:endParaRPr>
          </a:p>
          <a:p>
            <a:pPr marL="560520" indent="-56052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n può provvedere nelle materie indicate nell’art. 72, comma 4 della Costituzione (procedimento ordinario);</a:t>
            </a:r>
            <a:endParaRPr b="0" lang="en-US" sz="2400" spc="-1" strike="noStrike">
              <a:solidFill>
                <a:srgbClr val="000000"/>
              </a:solidFill>
              <a:latin typeface="Times New Roman"/>
            </a:endParaRPr>
          </a:p>
          <a:p>
            <a:pPr marL="560520" indent="-56052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n può provvedere a reiterare i d.l. non convertiti con il voto negativo di una Camera;</a:t>
            </a:r>
            <a:endParaRPr b="0" lang="en-US" sz="2400" spc="-1" strike="noStrike">
              <a:solidFill>
                <a:srgbClr val="000000"/>
              </a:solidFill>
              <a:latin typeface="Times New Roman"/>
            </a:endParaRPr>
          </a:p>
          <a:p>
            <a:pPr marL="560520" indent="-56052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n può regolare i rapporti giuridici già regolati da un d.l. non convertito;</a:t>
            </a:r>
            <a:endParaRPr b="0" lang="en-US" sz="2400" spc="-1" strike="noStrike">
              <a:solidFill>
                <a:srgbClr val="000000"/>
              </a:solidFill>
              <a:latin typeface="Times New Roman"/>
            </a:endParaRPr>
          </a:p>
          <a:p>
            <a:pPr marL="560520" indent="-56052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n può ripristinare l’efficacia delle disposizioni dichiarate illegittime dalla Corte Costituzionale non per vizi del procedimento.</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5487F67-4093-4876-AAB9-E0D7D43B18A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l decreto legge</a:t>
            </a:r>
            <a:endParaRPr b="0" lang="en-US" sz="4400" spc="-1" strike="noStrike">
              <a:solidFill>
                <a:srgbClr val="000000"/>
              </a:solidFill>
              <a:latin typeface="Times New Roman"/>
            </a:endParaRPr>
          </a:p>
        </p:txBody>
      </p:sp>
      <p:sp>
        <p:nvSpPr>
          <p:cNvPr id="12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utilizzo di questo atto si è prestato ad opposti abusi: del Governo che include nel suo contenuto ordinarie questioni amministrative; del Parlamento, vittima, ma anche colpevole della mancata conversion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l contenuto del d.l. è incorporato in un disegno di legge “motorizzato”, nel senso che, al Senato, è iscritto nell’o.d.g. in modo che la votazione intervenga entro 30 giorni; alla Camera è automaticamente iscritto nel programma e nel calendario dei lavori, supera le preclusioni della sessione di bilancio e non ammette pregiudiziali, se non l’esame di quella di costituzionalità.</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F2C0860-ED0C-4916-9C4C-61B484ABD28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 regolamenti</a:t>
            </a:r>
            <a:endParaRPr b="0" lang="en-US" sz="4400" spc="-1" strike="noStrike">
              <a:solidFill>
                <a:srgbClr val="000000"/>
              </a:solidFill>
              <a:latin typeface="Times New Roman"/>
            </a:endParaRPr>
          </a:p>
        </p:txBody>
      </p:sp>
      <p:sp>
        <p:nvSpPr>
          <p:cNvPr id="12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no, in genere, atti normativi subordinati alla legge.</a:t>
            </a: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n si tratta, in realtà, di un’unica fonte, ma di una </a:t>
            </a:r>
            <a:r>
              <a:rPr b="0" i="1" lang="en-US" sz="2400" spc="-1" strike="noStrike">
                <a:solidFill>
                  <a:srgbClr val="000000"/>
                </a:solidFill>
                <a:latin typeface="Times New Roman"/>
              </a:rPr>
              <a:t>famiglia </a:t>
            </a:r>
            <a:r>
              <a:rPr b="0" lang="en-US" sz="2400" spc="-1" strike="noStrike">
                <a:solidFill>
                  <a:srgbClr val="000000"/>
                </a:solidFill>
                <a:latin typeface="Times New Roman"/>
              </a:rPr>
              <a:t>di fonti diverse tra loro per la competenza a compiere l’atto e per la procedura da seguire (cioè per gli aspetti formali dell’atto).</a:t>
            </a: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artengono alla </a:t>
            </a:r>
            <a:r>
              <a:rPr b="0" i="1" lang="en-US" sz="2400" spc="-1" strike="noStrike">
                <a:solidFill>
                  <a:srgbClr val="000000"/>
                </a:solidFill>
                <a:latin typeface="Times New Roman"/>
              </a:rPr>
              <a:t>famiglia </a:t>
            </a:r>
            <a:r>
              <a:rPr b="0" lang="en-US" sz="2400" spc="-1" strike="noStrike">
                <a:solidFill>
                  <a:srgbClr val="000000"/>
                </a:solidFill>
                <a:latin typeface="Times New Roman"/>
              </a:rPr>
              <a:t>atti statali, quali i regolamenti del Governo ed i regolamenti dei Ministri, ed atti non statali, quali i regolamenti regionali, i regolamenti comunali ed i cosiddetti statuti degli enti pubblici.</a:t>
            </a: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l regolamento è legge in senso sostanziale, per indicare che contiene prescrizioni generali ed astratte, ma, quanto alla forma (ed al regime giuridico) non si distingue dagli atti amministrativi.</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17F7062-755B-4579-9340-E0FEAE9E45A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 regolamenti</a:t>
            </a:r>
            <a:endParaRPr b="0" lang="en-US" sz="4400" spc="-1" strike="noStrike">
              <a:solidFill>
                <a:srgbClr val="000000"/>
              </a:solidFill>
              <a:latin typeface="Times New Roman"/>
            </a:endParaRPr>
          </a:p>
        </p:txBody>
      </p:sp>
      <p:sp>
        <p:nvSpPr>
          <p:cNvPr id="12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linea generale il potere regolamentare sussiste solo se e quando la legge lo prevede (manifestazione del principio di legalità). Ma, va aggiunto che non tutte le materie possono essere dalla legge affidate ai regolamenti (ad es. non quelle in cui vi sia riserva di legge assoluta).</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D741BE1-2BA2-4B79-B7B5-FB03B77989E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niziativa legislativa</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rlamentare</a:t>
            </a:r>
            <a:r>
              <a:rPr b="0" lang="en-US" sz="2400" spc="-1" strike="noStrike">
                <a:solidFill>
                  <a:srgbClr val="000000"/>
                </a:solidFill>
                <a:latin typeface="Times New Roman"/>
              </a:rPr>
              <a:t> è connessa allo </a:t>
            </a:r>
            <a:r>
              <a:rPr b="0" i="1" lang="en-US" sz="2400" spc="-1" strike="noStrike">
                <a:solidFill>
                  <a:srgbClr val="000000"/>
                </a:solidFill>
                <a:latin typeface="Times New Roman"/>
              </a:rPr>
              <a:t>status </a:t>
            </a:r>
            <a:r>
              <a:rPr b="0" lang="en-US" sz="2400" spc="-1" strike="noStrike">
                <a:solidFill>
                  <a:srgbClr val="000000"/>
                </a:solidFill>
                <a:latin typeface="Times New Roman"/>
              </a:rPr>
              <a:t>di parlamentare. Si è posto il problema del se questo genere di iniziativa fosse strumentalizzabile ad opera di gruppi di pressione e, quindi, se ad esso vi fosse necessità di apporre dei limiti. Ma questo problema è stato superato in relazione al fatto che il riferimento all’art. 67 Cost. consente, in ogni caso, un legame con l’interesse generale</a:t>
            </a:r>
            <a:r>
              <a:rPr b="0" i="1" lang="en-US" sz="2400" spc="-1" strike="noStrike">
                <a:solidFill>
                  <a:srgbClr val="000000"/>
                </a:solidFill>
                <a:latin typeface="Times New Roman"/>
              </a:rPr>
              <a:t> </a:t>
            </a:r>
            <a:r>
              <a:rPr b="0" lang="en-US" sz="2400" spc="-1" strike="noStrike">
                <a:solidFill>
                  <a:srgbClr val="000000"/>
                </a:solidFill>
                <a:latin typeface="Times New Roman"/>
              </a:rPr>
              <a:t>e che l’iniziativa parlamentare svolge una funzione essenziale di vigilanza e di integrazione dell’indirizzo politico del governo.</a:t>
            </a:r>
            <a:endParaRPr b="0" lang="en-US" sz="2400" spc="-1" strike="noStrike">
              <a:solidFill>
                <a:srgbClr val="000000"/>
              </a:solidFill>
              <a:latin typeface="Times New Roman"/>
            </a:endParaRPr>
          </a:p>
          <a:p>
            <a:pPr marL="315360" indent="-3153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opolare </a:t>
            </a:r>
            <a:r>
              <a:rPr b="0" lang="en-US" sz="2400" spc="-1" strike="noStrike">
                <a:solidFill>
                  <a:srgbClr val="000000"/>
                </a:solidFill>
                <a:latin typeface="Times New Roman"/>
              </a:rPr>
              <a:t>come modo di esercizio diretto della sovranità popolare. L’art. 71, c. 2 ribadisce che l’iniziativa appartiene al popolo, ma la affida al corpo elettorale (50.000 cittadini elettori).</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9854CA0-3002-40DC-882E-628E8A7C7B2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iziativa ed istruttoria</a:t>
            </a:r>
            <a:endParaRPr b="0" lang="en-US" sz="44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 quanto riguarda gli altri due tipi di iniziativa gli stessi soffrono delle limitazioni. In particolare l’iniziativa del CNEL (art. 99, comma 3) è limitata alle materie dell’economia e del lavoro, per quanto riguarda le regioni è limitata alle materie di competenza legislativa statale per le quali si profila un qualche interesse delle regioni. Ciò non ostante che la norma dell’art. 121, c. 2 Cost. possa far pensare ad una potestà propulsiva generale collegata al ruolo di primissimo piano con cui furono pensati questi enti. In realtà le norme degli statuti speciali ne hanno ridotto la portata alle sole materie di interesse regionale, onde sarebbe apparso strano pensare ad un diverso regime tra regioni a statuto speciale ed a statuto ordinario.</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43E884C-D98E-4E8E-9B68-4E78D92632E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truttoria: cenni</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serito il progetto nell’o.d.g., il Presidente di Assemblea provvederà ad assegnarlo ad una Commissione. La scelta presidenziale assume un significato importante per le fasi di esame successive, e ciò sotto un duplice profilo: in relazione al tipo di procedimento prescelto ed in relazione alle competenze della commissione cui il progetto è affidato in via primaria o in via consultiva       </a:t>
            </a:r>
            <a:r>
              <a:rPr b="0" lang="en-US" sz="2400" spc="-1" strike="noStrike">
                <a:solidFill>
                  <a:srgbClr val="000000"/>
                </a:solidFill>
                <a:latin typeface="Times New Roman"/>
                <a:ea typeface="Arial Unicode MS"/>
              </a:rPr>
              <a:t>abbinamento (esame congiunto in relazione a progetti che abbiano oggetto identico o strettamente connesso).</a:t>
            </a:r>
            <a:endParaRPr b="0" lang="en-US" sz="2400" spc="-1" strike="noStrike">
              <a:solidFill>
                <a:srgbClr val="000000"/>
              </a:solidFill>
              <a:latin typeface="Times New Roman"/>
            </a:endParaRPr>
          </a:p>
          <a:p>
            <a:pPr marL="318960" indent="-318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Unicode MS"/>
              </a:rPr>
              <a:t>Una volta prescelto un testo base o un testo unificato, e prima di passare alla fase in cui si determina il contenuto dell’atto, sul progetto vengono espressi i pareri delle commissioni che hanno competenze potenzialmente implicate. </a:t>
            </a:r>
            <a:endParaRPr b="0" lang="en-US" sz="2400" spc="-1" strike="noStrike">
              <a:solidFill>
                <a:srgbClr val="000000"/>
              </a:solidFill>
              <a:latin typeface="Times New Roman"/>
            </a:endParaRPr>
          </a:p>
        </p:txBody>
      </p:sp>
      <p:sp>
        <p:nvSpPr>
          <p:cNvPr id="53" name=""/>
          <p:cNvSpPr/>
          <p:nvPr/>
        </p:nvSpPr>
        <p:spPr>
          <a:xfrm>
            <a:off x="6324480" y="4114800"/>
            <a:ext cx="304920" cy="76320"/>
          </a:xfrm>
          <a:prstGeom prst="rightArrow">
            <a:avLst>
              <a:gd name="adj1" fmla="val 50000"/>
              <a:gd name="adj2" fmla="val 99882"/>
            </a:avLst>
          </a:prstGeom>
          <a:solidFill>
            <a:srgbClr val="00cc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E5CF6A1-C177-46A1-B909-C967B5EB529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 fase costitutiva</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566640" indent="-5666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iferimenti </a:t>
            </a:r>
            <a:r>
              <a:rPr b="0" lang="en-US" sz="2400" spc="-1" strike="noStrike">
                <a:solidFill>
                  <a:srgbClr val="000000"/>
                </a:solidFill>
                <a:latin typeface="Times New Roman"/>
              </a:rPr>
              <a:t>(art. 72 Cost.)</a:t>
            </a:r>
            <a:endParaRPr b="0" lang="en-US" sz="2400" spc="-1" strike="noStrike">
              <a:solidFill>
                <a:srgbClr val="000000"/>
              </a:solidFill>
              <a:latin typeface="Times New Roman"/>
            </a:endParaRPr>
          </a:p>
          <a:p>
            <a:pPr marL="566640" indent="-5666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rt. 72, pur disciplinando i punti essenziali della funzione legislativa, contiene un ampio rinvio ai regolamenti parlamentari, con ciò ponendo in risalto anche l’autonomia delle singole Assemblee.</a:t>
            </a:r>
            <a:endParaRPr b="0" lang="en-US" sz="2400" spc="-1" strike="noStrike">
              <a:solidFill>
                <a:srgbClr val="000000"/>
              </a:solidFill>
              <a:latin typeface="Times New Roman"/>
            </a:endParaRPr>
          </a:p>
          <a:p>
            <a:pPr marL="566640" indent="-5666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ntervento delle Commissioni legislative non solo è obbligatorio, ma è calibrato in relazione al tipo di procedimento che deve essere seguito.</a:t>
            </a:r>
            <a:endParaRPr b="0" lang="en-US" sz="2400" spc="-1" strike="noStrike">
              <a:solidFill>
                <a:srgbClr val="000000"/>
              </a:solidFill>
              <a:latin typeface="Times New Roman"/>
            </a:endParaRPr>
          </a:p>
          <a:p>
            <a:pPr marL="566640" indent="-5666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no tre i tipi di procedimento previsti:</a:t>
            </a:r>
            <a:endParaRPr b="0" lang="en-US" sz="2400" spc="-1" strike="noStrike">
              <a:solidFill>
                <a:srgbClr val="000000"/>
              </a:solidFill>
              <a:latin typeface="Times New Roman"/>
            </a:endParaRPr>
          </a:p>
          <a:p>
            <a:pPr marL="566640" indent="-56664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rdinario (o di Commissione in sede referente)</a:t>
            </a:r>
            <a:r>
              <a:rPr b="0" lang="en-US" sz="2400" spc="-1" strike="noStrike">
                <a:solidFill>
                  <a:srgbClr val="000000"/>
                </a:solidFill>
                <a:latin typeface="Times New Roman"/>
              </a:rPr>
              <a:t>. In questo caso la Commissione deve esaminare il progetto di legge e poi predisporre una o più relazioni per l’Assemblea.</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FF6DC8F-5726-43F6-A22F-A744B045E1F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 fase costitutiva</a:t>
            </a:r>
            <a:endParaRPr b="0" lang="en-US" sz="44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597240" indent="-5972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Il Passaggio in Aula determina l’impegno dell’Assemblea di discutere, anzitutto, le linee generali del progetto, poi discutere e votare articolo per articolo (con precedenza per gli emendamenti) e poi procedere ad una votazione finale riassuntiva onde evitare contraddizioni o lacune (</a:t>
            </a:r>
            <a:r>
              <a:rPr b="0" i="1" lang="it-IT" sz="2400" spc="-1" strike="noStrike">
                <a:solidFill>
                  <a:srgbClr val="000000"/>
                </a:solidFill>
                <a:latin typeface="Times New Roman"/>
              </a:rPr>
              <a:t>navette</a:t>
            </a:r>
            <a:r>
              <a:rPr b="0" lang="it-IT" sz="2400" spc="-1" strike="noStrike">
                <a:solidFill>
                  <a:srgbClr val="000000"/>
                </a:solidFill>
                <a:latin typeface="Times New Roman"/>
              </a:rPr>
              <a:t>).</a:t>
            </a:r>
            <a:endParaRPr b="0" lang="en-US" sz="2400" spc="-1" strike="noStrike">
              <a:solidFill>
                <a:srgbClr val="000000"/>
              </a:solidFill>
              <a:latin typeface="Times New Roman"/>
            </a:endParaRPr>
          </a:p>
          <a:p>
            <a:pPr marL="597240" indent="-597240">
              <a:lnSpc>
                <a:spcPct val="90000"/>
              </a:lnSpc>
              <a:spcBef>
                <a:spcPts val="60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Decentrato (o della Commissione in sede deliberante)</a:t>
            </a:r>
            <a:endParaRPr b="0" lang="en-US" sz="2400" spc="-1" strike="noStrike">
              <a:solidFill>
                <a:srgbClr val="000000"/>
              </a:solidFill>
              <a:latin typeface="Times New Roman"/>
            </a:endParaRPr>
          </a:p>
          <a:p>
            <a:pPr marL="597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         </a:t>
            </a:r>
            <a:r>
              <a:rPr b="0" lang="it-IT" sz="2400" spc="-1" strike="noStrike">
                <a:solidFill>
                  <a:srgbClr val="000000"/>
                </a:solidFill>
                <a:latin typeface="Times New Roman"/>
              </a:rPr>
              <a:t>Art. 92 del Reg. Camera. Quando un progetto di legge riguarda questioni che non hanno speciale rilevanza di ordine generale, il Presidente può proporre alla Camera che il progetto sia assegnato ad una Commissione in sede legislativa per l’esame e l’approvazione.</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989133F-4CCC-4DB5-93D7-E32B7BFC4FC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 fase costitutiva</a:t>
            </a:r>
            <a:endParaRPr b="0" lang="en-US" sz="4400" spc="-1" strike="noStrike">
              <a:solidFill>
                <a:srgbClr val="0000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l procedimento decentrato accoglie l’orientamento che le moderne Assemblee legislative sono anche organi le cui attività vengono affidate a gruppi ristretti, che dovrebbero garantire maggior celerità e più specifico approfondimento.</a:t>
            </a:r>
            <a:endParaRPr b="0" lang="en-US" sz="2400" spc="-1" strike="noStrike">
              <a:solidFill>
                <a:srgbClr val="000000"/>
              </a:solidFill>
              <a:latin typeface="Times New Roman"/>
            </a:endParaRPr>
          </a:p>
          <a:p>
            <a:pPr marL="325800" indent="-325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ticolarmente in prossimità delle scadenze elettorali di questo tipo di procedimento si è fatto abuso.</a:t>
            </a:r>
            <a:endParaRPr b="0" lang="en-US" sz="2400" spc="-1" strike="noStrike">
              <a:solidFill>
                <a:srgbClr val="000000"/>
              </a:solidFill>
              <a:latin typeface="Times New Roman"/>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a:t>
            </a:r>
            <a:r>
              <a:rPr b="1" lang="en-US" sz="2400" spc="-1" strike="noStrike">
                <a:solidFill>
                  <a:srgbClr val="000000"/>
                </a:solidFill>
                <a:latin typeface="Times New Roman"/>
              </a:rPr>
              <a:t>Procedimento in sede redigente. </a:t>
            </a:r>
            <a:r>
              <a:rPr b="0" lang="en-US" sz="2400" spc="-1" strike="noStrike">
                <a:solidFill>
                  <a:srgbClr val="000000"/>
                </a:solidFill>
                <a:latin typeface="Times New Roman"/>
              </a:rPr>
              <a:t>In questo caso l’assemblea effettua la discussione sulle linee generali del progetto, la Commissione formula gli articoli e l’Assemblea approva i singoli articoli senza dichiarazione di voto ed il p.d.l. nel suo complesso previe solo le dichiarazioni di voto.</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F9D71FB-E187-4914-8DC6-0733E26E785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6T10:17:13Z</dcterms:created>
  <dc:creator>Giovanni Cocco</dc:creator>
  <dc:description/>
  <dc:language>en-US</dc:language>
  <cp:lastModifiedBy>asegreteria</cp:lastModifiedBy>
  <dcterms:modified xsi:type="dcterms:W3CDTF">2004-10-18T14:11:18Z</dcterms:modified>
  <cp:revision>24</cp:revision>
  <dc:subject/>
  <dc:title>IV Istituzioni di diritto pubblico</dc:title>
</cp:coreProperties>
</file>